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3.wmf" ContentType="image/x-wmf"/>
  <Override PartName="/ppt/media/image12.wmf" ContentType="image/x-wmf"/>
  <Override PartName="/ppt/media/image38.png" ContentType="image/png"/>
  <Override PartName="/ppt/media/image8.png" ContentType="image/png"/>
  <Override PartName="/ppt/media/image16.wmf" ContentType="image/x-wmf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11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4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15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77F8-8E44-498B-BC0E-9C57D1AA7CE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BC8-414F-444F-95E3-EE0DFB7F82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1D1-53D8-449F-871F-6AF245589F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FE07-4D2E-4FE8-BFFA-50DCBF67B1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B3A-61C7-49A9-87D7-E95E4A9C6F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DE42-8992-4682-91D3-EB58E5B8C9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B725-8778-483F-BFA6-54FECC6CBF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352-516E-4CA4-B3C7-1707823A9B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5EF-8CD6-4B1F-ACBA-002661E4FE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744-64A9-4073-921F-39A010133B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F244-526B-498D-9B91-9360B26FF7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0115-4436-457B-B283-AE64074F45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423-3D24-4892-AF6B-9182A01D4A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451-5020-40A3-ABA5-CC62B8C8D6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43000" y="744480"/>
            <a:ext cx="45720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896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886-BC43-48F1-83B2-21CB53F6B9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712760"/>
            <a:ext cx="5029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9478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060560" y="4722480"/>
            <a:ext cx="47275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819-87FF-4D86-882B-693D5419EEC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2960" y="4714920"/>
            <a:ext cx="5032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0F9-C018-408C-996B-49D6A9DBB5B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2D4A-F8E5-4A3A-8B5B-0CF45304B38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BD5C-D220-40ED-B013-127F27A033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"/>
          <p:cNvSpPr/>
          <p:nvPr/>
        </p:nvSpPr>
        <p:spPr>
          <a:xfrm>
            <a:off x="920880" y="819000"/>
            <a:ext cx="5033880" cy="40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1060200" y="4722480"/>
            <a:ext cx="473076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6E46-19CC-41E1-B480-A73B172860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1560" y="952560"/>
            <a:ext cx="4560840" cy="34225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060560" y="4722840"/>
            <a:ext cx="4727520" cy="37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8BF-3662-4CB9-838C-C4FCBF3F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7F1-87A6-455C-850A-7E42E7B2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17A-211F-4F4D-828A-8989A295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DDF-C8D1-4218-8F7B-FE0620DF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F61D-3EF1-4398-93B2-535CDCED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1868-0CA9-4614-A3E2-EF814B6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CEB1-23CB-4A96-B347-73CFBA42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CBF-4A15-467D-9AAA-939B853F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F64-64FF-4905-9058-2DA01E2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BC16-42B6-460A-880E-CF6837DF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F0E-FA1C-4A9F-B538-373CEE93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A98-7ACF-4804-A05D-E2C6479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3489-4AD2-447A-A91A-B69C1397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733B-9B5E-4031-8FA3-BA26C55D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33F-329B-41D3-94A4-7F8EAF3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553C-DB0E-40D9-87A5-32FAC2BC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6B90-F28E-4EBC-980F-06DFD930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CC65-0EF7-480E-9E34-B18F6D96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613E-7F14-42C7-A1A3-6E103C2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E27E-1EC6-4AF3-8AB5-EFD2F90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5F4F-424E-4ACB-B7AA-7E1B84F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274E-87E0-47DF-919B-7A1A5CCE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1D7-497F-420F-A3DC-BBE99CB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6DDB-C0A9-4AF5-80CD-331A43C2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9E5D-2E7A-4952-8D7F-470671F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BB844-9DA3-43DA-955D-AFA69D7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53BD-2210-4428-A9AA-A322B19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D997-CD42-4EA4-9C73-3F85D63A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EC0E-9C48-44AC-B944-B3B6F2A5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C5E5-6146-4EF1-AC56-11B2B946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963E-F177-445D-B827-FF5E3379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5397-2C7C-4866-B1CF-FEA09B22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405E-BDDD-44F3-8DD4-E77ACD8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8A1-FA2A-436E-9653-E35A27E2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16A1-5605-4DD9-B108-C10DCB74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66B9-D400-472C-BFC8-C2A801E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D178-57CB-4FE9-B518-5C20AE4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F651-05D0-43B1-9AC2-49D63C3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D189-52CE-4E69-877E-0C64CD5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9F26-AE25-44AF-90C0-8F4F2A6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7530-2DF1-48AD-85C3-0016928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B2A2-FEE2-472B-999F-6C16D16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5FAA-35D1-4917-B83F-087319D5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874-264F-4A23-92D9-486A2D2B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8ED-C38A-4C8D-B49C-644345D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0F9-3198-41E6-B933-74F508E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158-3D43-4AF9-9049-16FB6E72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7FD-5548-4469-90D0-58B0F8F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585-A1E4-48D3-B818-0D10FE833D26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15A-20C3-49E8-96C9-8774A0ADC84A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5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8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67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8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1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5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585-8064-4C43-8827-535E536DA2CA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1B1-1522-4DAD-8206-0B11256477F5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22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6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131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32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35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9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B97-F4EE-4E44-85BC-0DDE0B03A4B2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8BB-F185-4D50-9A25-4C60EB8BB4F9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8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8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2"/>
          <p:cNvSpPr/>
          <p:nvPr/>
        </p:nvSpPr>
        <p:spPr>
          <a:xfrm>
            <a:off x="250920" y="404640"/>
            <a:ext cx="8642160" cy="568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3 Rectángulo"/>
          <p:cNvSpPr/>
          <p:nvPr/>
        </p:nvSpPr>
        <p:spPr>
          <a:xfrm>
            <a:off x="250920" y="6237360"/>
            <a:ext cx="86421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63369" dir="21541408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3 Imagen" descr=""/>
          <p:cNvPicPr/>
          <p:nvPr/>
        </p:nvPicPr>
        <p:blipFill>
          <a:blip r:embed="rId5"/>
          <a:stretch/>
        </p:blipFill>
        <p:spPr>
          <a:xfrm>
            <a:off x="7812000" y="6237360"/>
            <a:ext cx="1009800" cy="404640"/>
          </a:xfrm>
          <a:prstGeom prst="rect">
            <a:avLst/>
          </a:prstGeom>
          <a:ln w="0">
            <a:noFill/>
          </a:ln>
        </p:spPr>
      </p:pic>
      <p:grpSp>
        <p:nvGrpSpPr>
          <p:cNvPr id="19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9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99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203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60b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8BF-2CF4-49B5-8E4F-096981087766}" type="datetime3">
              <a:rPr b="1" lang="en-US" sz="1100" spc="-1" strike="noStrike">
                <a:solidFill>
                  <a:srgbClr val="7f7f7f"/>
                </a:solidFill>
                <a:latin typeface="Arial"/>
              </a:rPr>
              <a:t>July 29, 20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Arial"/>
              </a:rPr>
              <a:t>UOOML CEMOC - Fondazione IRCCS Cà Gra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7D5-D605-48F8-981C-23CA78E6EFD4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epmcorsi@tiscali.it" TargetMode="External"/><Relationship Id="rId2" Type="http://schemas.openxmlformats.org/officeDocument/2006/relationships/hyperlink" Target="mailto:epmcorsi@tiscali.it" TargetMode="External"/><Relationship Id="rId3" Type="http://schemas.openxmlformats.org/officeDocument/2006/relationships/hyperlink" Target="mailto:epmospedali@tiscali.it" TargetMode="External"/><Relationship Id="rId4" Type="http://schemas.openxmlformats.org/officeDocument/2006/relationships/hyperlink" Target="mailto:Silvia.cairoli@policlinico.mi.i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41280" y="1211400"/>
            <a:ext cx="828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60b00"/>
                </a:solidFill>
                <a:latin typeface="Arial"/>
              </a:rPr>
              <a:t>Prevenzione nel settore sanità: esperienze della UOOML CEMOC di Mi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sellaDiTesto 1"/>
          <p:cNvSpPr/>
          <p:nvPr/>
        </p:nvSpPr>
        <p:spPr>
          <a:xfrm>
            <a:off x="1042920" y="6237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LGA MEN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piè di pagina 4"/>
          <p:cNvSpPr/>
          <p:nvPr/>
        </p:nvSpPr>
        <p:spPr>
          <a:xfrm>
            <a:off x="3851280" y="62467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olo 1" descr=""/>
          <p:cNvPicPr/>
          <p:nvPr/>
        </p:nvPicPr>
        <p:blipFill>
          <a:blip r:embed="rId1"/>
          <a:stretch/>
        </p:blipFill>
        <p:spPr>
          <a:xfrm>
            <a:off x="96840" y="457200"/>
            <a:ext cx="887580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24000" y="220500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131840"/>
                <a:gridCol w="153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24000" y="357336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2268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24000" y="5013360"/>
          <a:ext cx="8569080" cy="98100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208160"/>
                <a:gridCol w="1055880"/>
                <a:gridCol w="1536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309" name="CasellaDiTesto 6"/>
          <p:cNvSpPr/>
          <p:nvPr/>
        </p:nvSpPr>
        <p:spPr>
          <a:xfrm>
            <a:off x="366840" y="1771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sellaDiTesto 7"/>
          <p:cNvSpPr/>
          <p:nvPr/>
        </p:nvSpPr>
        <p:spPr>
          <a:xfrm>
            <a:off x="304920" y="3213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llaDiTesto 8"/>
          <p:cNvSpPr/>
          <p:nvPr/>
        </p:nvSpPr>
        <p:spPr>
          <a:xfrm>
            <a:off x="358560" y="4581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ccia in giù 10"/>
          <p:cNvSpPr/>
          <p:nvPr/>
        </p:nvSpPr>
        <p:spPr>
          <a:xfrm>
            <a:off x="3276720" y="1773360"/>
            <a:ext cx="215640" cy="287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ccia in giù 11"/>
          <p:cNvSpPr/>
          <p:nvPr/>
        </p:nvSpPr>
        <p:spPr>
          <a:xfrm>
            <a:off x="1979640" y="4724280"/>
            <a:ext cx="216000" cy="289080"/>
          </a:xfrm>
          <a:prstGeom prst="downArrow">
            <a:avLst>
              <a:gd name="adj1" fmla="val 50000"/>
              <a:gd name="adj2" fmla="val 5018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ccia in giù 12"/>
          <p:cNvSpPr/>
          <p:nvPr/>
        </p:nvSpPr>
        <p:spPr>
          <a:xfrm>
            <a:off x="6732720" y="4724280"/>
            <a:ext cx="215640" cy="28908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1"/>
          <p:cNvSpPr/>
          <p:nvPr/>
        </p:nvSpPr>
        <p:spPr>
          <a:xfrm>
            <a:off x="426960" y="630864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819000" y="0"/>
            <a:ext cx="777240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 indent="-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33"/>
                </a:solidFill>
                <a:latin typeface="Arial"/>
                <a:ea typeface="Arial"/>
              </a:rPr>
              <a:t>Cosa determina un aumento della frequenza di posture incongrue/trasferimenti manu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5370480" y="3165480"/>
            <a:ext cx="3505320" cy="1295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SSENZA/CAR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U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379440" y="4648320"/>
            <a:ext cx="439092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INADEGU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FORMAZIONE 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5148360" y="4581360"/>
            <a:ext cx="373356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75e5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675e55"/>
                </a:solidFill>
                <a:latin typeface="Arial"/>
                <a:ea typeface="Arial"/>
              </a:rPr>
              <a:t>INADEGUATE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75e55"/>
                </a:solidFill>
                <a:latin typeface="Arial"/>
                <a:ea typeface="Arial"/>
              </a:rPr>
              <a:t>ARREDI/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338040" y="2421000"/>
            <a:ext cx="4813560" cy="194004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  <a:ea typeface="Arial"/>
              </a:rPr>
              <a:t>RAPPORTO NUME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33"/>
                </a:solidFill>
                <a:latin typeface="Arial"/>
                <a:ea typeface="Arial"/>
              </a:rPr>
              <a:t>PAZIENTI/OPER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28"/>
          <p:cNvSpPr/>
          <p:nvPr/>
        </p:nvSpPr>
        <p:spPr>
          <a:xfrm>
            <a:off x="566640" y="0"/>
            <a:ext cx="8577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ANTI FONDAMENTAL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 RISCHIO SPECI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82680" y="31320"/>
            <a:ext cx="646272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ffff00"/>
                </a:solidFill>
                <a:latin typeface="Arial"/>
              </a:rPr>
              <a:t>REPARTI: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APO INDEX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7319880" y="2111400"/>
            <a:ext cx="1524240" cy="863640"/>
            <a:chOff x="7319880" y="2111400"/>
            <a:chExt cx="1524240" cy="863640"/>
          </a:xfrm>
        </p:grpSpPr>
        <p:sp>
          <p:nvSpPr>
            <p:cNvPr id="325" name="Freeform 4"/>
            <p:cNvSpPr/>
            <p:nvPr/>
          </p:nvSpPr>
          <p:spPr>
            <a:xfrm>
              <a:off x="7319880" y="2111400"/>
              <a:ext cx="1524240" cy="8636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1056" h="617">
                  <a:moveTo>
                    <a:pt x="0" y="616"/>
                  </a:moveTo>
                  <a:lnTo>
                    <a:pt x="1055" y="616"/>
                  </a:lnTo>
                  <a:lnTo>
                    <a:pt x="1055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"/>
            <p:cNvSpPr/>
            <p:nvPr/>
          </p:nvSpPr>
          <p:spPr>
            <a:xfrm>
              <a:off x="7461000" y="2238840"/>
              <a:ext cx="13003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"/>
          <p:cNvGrpSpPr/>
          <p:nvPr/>
        </p:nvGrpSpPr>
        <p:grpSpPr>
          <a:xfrm>
            <a:off x="5154480" y="1336680"/>
            <a:ext cx="3751200" cy="582480"/>
            <a:chOff x="5154480" y="1336680"/>
            <a:chExt cx="3751200" cy="582480"/>
          </a:xfrm>
        </p:grpSpPr>
        <p:sp>
          <p:nvSpPr>
            <p:cNvPr id="328" name="Freeform 7"/>
            <p:cNvSpPr/>
            <p:nvPr/>
          </p:nvSpPr>
          <p:spPr>
            <a:xfrm>
              <a:off x="5154480" y="1336680"/>
              <a:ext cx="3751200" cy="582480"/>
            </a:xfrm>
            <a:custGeom>
              <a:avLst/>
              <a:gdLst>
                <a:gd name="textAreaLeft" fmla="*/ 0 w 3751200"/>
                <a:gd name="textAreaRight" fmla="*/ 3751560 w 37512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235" h="417">
                  <a:moveTo>
                    <a:pt x="0" y="416"/>
                  </a:moveTo>
                  <a:lnTo>
                    <a:pt x="1234" y="416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0" y="416"/>
                  </a:lnTo>
                </a:path>
              </a:pathLst>
            </a:custGeom>
            <a:solidFill>
              <a:srgbClr val="ffffcc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"/>
            <p:cNvSpPr/>
            <p:nvPr/>
          </p:nvSpPr>
          <p:spPr>
            <a:xfrm>
              <a:off x="5500800" y="1421640"/>
              <a:ext cx="3204000" cy="43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ATTORE SOLLEVATO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9"/>
          <p:cNvGrpSpPr/>
          <p:nvPr/>
        </p:nvGrpSpPr>
        <p:grpSpPr>
          <a:xfrm>
            <a:off x="7415280" y="457200"/>
            <a:ext cx="1392120" cy="739800"/>
            <a:chOff x="7415280" y="457200"/>
            <a:chExt cx="1392120" cy="739800"/>
          </a:xfrm>
        </p:grpSpPr>
        <p:sp>
          <p:nvSpPr>
            <p:cNvPr id="331" name="Freeform 10"/>
            <p:cNvSpPr/>
            <p:nvPr/>
          </p:nvSpPr>
          <p:spPr>
            <a:xfrm>
              <a:off x="7415280" y="457200"/>
              <a:ext cx="1392120" cy="739800"/>
            </a:xfrm>
            <a:custGeom>
              <a:avLst/>
              <a:gdLst>
                <a:gd name="textAreaLeft" fmla="*/ 0 w 1392120"/>
                <a:gd name="textAreaRight" fmla="*/ 1392480 w 13921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965" h="528">
                  <a:moveTo>
                    <a:pt x="0" y="527"/>
                  </a:moveTo>
                  <a:lnTo>
                    <a:pt x="964" y="527"/>
                  </a:lnTo>
                  <a:lnTo>
                    <a:pt x="964" y="0"/>
                  </a:lnTo>
                  <a:lnTo>
                    <a:pt x="0" y="0"/>
                  </a:lnTo>
                  <a:lnTo>
                    <a:pt x="0" y="527"/>
                  </a:lnTo>
                  <a:lnTo>
                    <a:pt x="0" y="527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1"/>
            <p:cNvSpPr/>
            <p:nvPr/>
          </p:nvSpPr>
          <p:spPr>
            <a:xfrm>
              <a:off x="7544880" y="566280"/>
              <a:ext cx="1187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5154480" y="3214800"/>
            <a:ext cx="3751200" cy="583920"/>
            <a:chOff x="5154480" y="3214800"/>
            <a:chExt cx="3751200" cy="583920"/>
          </a:xfrm>
        </p:grpSpPr>
        <p:sp>
          <p:nvSpPr>
            <p:cNvPr id="334" name="Freeform 13"/>
            <p:cNvSpPr/>
            <p:nvPr/>
          </p:nvSpPr>
          <p:spPr>
            <a:xfrm>
              <a:off x="5154480" y="3214800"/>
              <a:ext cx="3751200" cy="583920"/>
            </a:xfrm>
            <a:custGeom>
              <a:avLst/>
              <a:gdLst>
                <a:gd name="textAreaLeft" fmla="*/ 0 w 3751200"/>
                <a:gd name="textAreaRight" fmla="*/ 3751560 w 375120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1235" h="417">
                  <a:moveTo>
                    <a:pt x="0" y="416"/>
                  </a:moveTo>
                  <a:lnTo>
                    <a:pt x="1234" y="416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0" y="416"/>
                  </a:lnTo>
                </a:path>
              </a:pathLst>
            </a:custGeom>
            <a:solidFill>
              <a:srgbClr val="fdd299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4"/>
            <p:cNvSpPr/>
            <p:nvPr/>
          </p:nvSpPr>
          <p:spPr>
            <a:xfrm>
              <a:off x="5503680" y="3300120"/>
              <a:ext cx="3201480" cy="430920"/>
            </a:xfrm>
            <a:prstGeom prst="rect">
              <a:avLst/>
            </a:prstGeom>
            <a:solidFill>
              <a:srgbClr val="fdd2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ATTORE AUSILI MINOR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5"/>
          <p:cNvGrpSpPr/>
          <p:nvPr/>
        </p:nvGrpSpPr>
        <p:grpSpPr>
          <a:xfrm>
            <a:off x="593640" y="3240000"/>
            <a:ext cx="3740400" cy="638280"/>
            <a:chOff x="593640" y="3240000"/>
            <a:chExt cx="3740400" cy="638280"/>
          </a:xfrm>
        </p:grpSpPr>
        <p:sp>
          <p:nvSpPr>
            <p:cNvPr id="337" name="Freeform 16"/>
            <p:cNvSpPr/>
            <p:nvPr/>
          </p:nvSpPr>
          <p:spPr>
            <a:xfrm>
              <a:off x="593640" y="3240000"/>
              <a:ext cx="3740400" cy="638280"/>
            </a:xfrm>
            <a:custGeom>
              <a:avLst/>
              <a:gdLst>
                <a:gd name="textAreaLeft" fmla="*/ 0 w 3740400"/>
                <a:gd name="textAreaRight" fmla="*/ 3740760 w 37404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592" h="455">
                  <a:moveTo>
                    <a:pt x="1645" y="454"/>
                  </a:moveTo>
                  <a:lnTo>
                    <a:pt x="1645" y="365"/>
                  </a:lnTo>
                  <a:lnTo>
                    <a:pt x="4" y="364"/>
                  </a:lnTo>
                  <a:lnTo>
                    <a:pt x="0" y="102"/>
                  </a:lnTo>
                  <a:lnTo>
                    <a:pt x="1636" y="102"/>
                  </a:lnTo>
                  <a:lnTo>
                    <a:pt x="1634" y="0"/>
                  </a:lnTo>
                  <a:lnTo>
                    <a:pt x="2591" y="228"/>
                  </a:lnTo>
                  <a:lnTo>
                    <a:pt x="1645" y="454"/>
                  </a:lnTo>
                  <a:lnTo>
                    <a:pt x="1645" y="45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7"/>
            <p:cNvSpPr/>
            <p:nvPr/>
          </p:nvSpPr>
          <p:spPr>
            <a:xfrm>
              <a:off x="795240" y="3431880"/>
              <a:ext cx="2883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0,5               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8"/>
          <p:cNvGrpSpPr/>
          <p:nvPr/>
        </p:nvGrpSpPr>
        <p:grpSpPr>
          <a:xfrm>
            <a:off x="5154480" y="4235400"/>
            <a:ext cx="3728520" cy="474840"/>
            <a:chOff x="5154480" y="4235400"/>
            <a:chExt cx="3728520" cy="474840"/>
          </a:xfrm>
        </p:grpSpPr>
        <p:sp>
          <p:nvSpPr>
            <p:cNvPr id="340" name="Freeform 19"/>
            <p:cNvSpPr/>
            <p:nvPr/>
          </p:nvSpPr>
          <p:spPr>
            <a:xfrm>
              <a:off x="5154480" y="4235400"/>
              <a:ext cx="3728520" cy="474840"/>
            </a:xfrm>
            <a:custGeom>
              <a:avLst/>
              <a:gdLst>
                <a:gd name="textAreaLeft" fmla="*/ 0 w 3728520"/>
                <a:gd name="textAreaRight" fmla="*/ 3728880 w 3728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934" h="339">
                  <a:moveTo>
                    <a:pt x="0" y="338"/>
                  </a:moveTo>
                  <a:lnTo>
                    <a:pt x="933" y="338"/>
                  </a:lnTo>
                  <a:lnTo>
                    <a:pt x="933" y="0"/>
                  </a:lnTo>
                  <a:lnTo>
                    <a:pt x="0" y="0"/>
                  </a:lnTo>
                  <a:lnTo>
                    <a:pt x="0" y="338"/>
                  </a:lnTo>
                  <a:lnTo>
                    <a:pt x="0" y="338"/>
                  </a:lnTo>
                </a:path>
              </a:pathLst>
            </a:custGeom>
            <a:solidFill>
              <a:srgbClr val="a1e2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5501880" y="4305240"/>
              <a:ext cx="31809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CARROZZ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21"/>
          <p:cNvGrpSpPr/>
          <p:nvPr/>
        </p:nvGrpSpPr>
        <p:grpSpPr>
          <a:xfrm>
            <a:off x="677880" y="4164120"/>
            <a:ext cx="3778200" cy="581040"/>
            <a:chOff x="677880" y="4164120"/>
            <a:chExt cx="3778200" cy="581040"/>
          </a:xfrm>
        </p:grpSpPr>
        <p:sp>
          <p:nvSpPr>
            <p:cNvPr id="343" name="Freeform 22"/>
            <p:cNvSpPr/>
            <p:nvPr/>
          </p:nvSpPr>
          <p:spPr>
            <a:xfrm>
              <a:off x="677880" y="416412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23"/>
            <p:cNvSpPr/>
            <p:nvPr/>
          </p:nvSpPr>
          <p:spPr>
            <a:xfrm>
              <a:off x="882720" y="433872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5154480" y="5062680"/>
            <a:ext cx="3710880" cy="476280"/>
            <a:chOff x="5154480" y="5062680"/>
            <a:chExt cx="3710880" cy="476280"/>
          </a:xfrm>
        </p:grpSpPr>
        <p:sp>
          <p:nvSpPr>
            <p:cNvPr id="346" name="Freeform 25"/>
            <p:cNvSpPr/>
            <p:nvPr/>
          </p:nvSpPr>
          <p:spPr>
            <a:xfrm>
              <a:off x="5154480" y="5062680"/>
              <a:ext cx="3710880" cy="476280"/>
            </a:xfrm>
            <a:custGeom>
              <a:avLst/>
              <a:gdLst>
                <a:gd name="textAreaLeft" fmla="*/ 0 w 3710880"/>
                <a:gd name="textAreaRight" fmla="*/ 3711240 w 3710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933" h="339">
                  <a:moveTo>
                    <a:pt x="0" y="338"/>
                  </a:moveTo>
                  <a:lnTo>
                    <a:pt x="932" y="338"/>
                  </a:lnTo>
                  <a:lnTo>
                    <a:pt x="932" y="0"/>
                  </a:lnTo>
                  <a:lnTo>
                    <a:pt x="0" y="0"/>
                  </a:lnTo>
                  <a:lnTo>
                    <a:pt x="0" y="338"/>
                  </a:lnTo>
                  <a:lnTo>
                    <a:pt x="0" y="338"/>
                  </a:lnTo>
                </a:path>
              </a:pathLst>
            </a:custGeom>
            <a:solidFill>
              <a:srgbClr val="ccffcc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6"/>
            <p:cNvSpPr/>
            <p:nvPr/>
          </p:nvSpPr>
          <p:spPr>
            <a:xfrm>
              <a:off x="5500800" y="5133960"/>
              <a:ext cx="3169800" cy="3484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AMB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7"/>
          <p:cNvGrpSpPr/>
          <p:nvPr/>
        </p:nvGrpSpPr>
        <p:grpSpPr>
          <a:xfrm>
            <a:off x="5154480" y="5665680"/>
            <a:ext cx="3722040" cy="460440"/>
            <a:chOff x="5154480" y="5665680"/>
            <a:chExt cx="3722040" cy="460440"/>
          </a:xfrm>
        </p:grpSpPr>
        <p:sp>
          <p:nvSpPr>
            <p:cNvPr id="349" name="Freeform 28"/>
            <p:cNvSpPr/>
            <p:nvPr/>
          </p:nvSpPr>
          <p:spPr>
            <a:xfrm>
              <a:off x="5154480" y="5665680"/>
              <a:ext cx="3722040" cy="460440"/>
            </a:xfrm>
            <a:custGeom>
              <a:avLst/>
              <a:gdLst>
                <a:gd name="textAreaLeft" fmla="*/ 0 w 3722040"/>
                <a:gd name="textAreaRight" fmla="*/ 3722400 w 3722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33" h="454">
                  <a:moveTo>
                    <a:pt x="0" y="453"/>
                  </a:moveTo>
                  <a:lnTo>
                    <a:pt x="932" y="453"/>
                  </a:lnTo>
                  <a:lnTo>
                    <a:pt x="932" y="0"/>
                  </a:lnTo>
                  <a:lnTo>
                    <a:pt x="0" y="0"/>
                  </a:lnTo>
                  <a:lnTo>
                    <a:pt x="0" y="453"/>
                  </a:lnTo>
                  <a:lnTo>
                    <a:pt x="0" y="453"/>
                  </a:lnTo>
                </a:path>
              </a:pathLst>
            </a:custGeom>
            <a:solidFill>
              <a:srgbClr val="ff9fcf"/>
            </a:solidFill>
            <a:ln w="18720">
              <a:solidFill>
                <a:srgbClr val="000000"/>
              </a:solidFill>
              <a:round/>
            </a:ln>
            <a:effectLst>
              <a:outerShdw dist="90113" dir="2700000" blurRad="0" rotWithShape="0">
                <a:srgbClr val="40404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9"/>
            <p:cNvSpPr/>
            <p:nvPr/>
          </p:nvSpPr>
          <p:spPr>
            <a:xfrm>
              <a:off x="5497200" y="5733720"/>
              <a:ext cx="3180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ATTORE 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0"/>
          <p:cNvSpPr/>
          <p:nvPr/>
        </p:nvSpPr>
        <p:spPr>
          <a:xfrm>
            <a:off x="8048520" y="1289160"/>
            <a:ext cx="4273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8139240" y="3828960"/>
            <a:ext cx="2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8139240" y="4726080"/>
            <a:ext cx="32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8040600" y="5035680"/>
            <a:ext cx="3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36"/>
          <p:cNvGrpSpPr/>
          <p:nvPr/>
        </p:nvGrpSpPr>
        <p:grpSpPr>
          <a:xfrm>
            <a:off x="703440" y="4889520"/>
            <a:ext cx="3778200" cy="581040"/>
            <a:chOff x="703440" y="4889520"/>
            <a:chExt cx="3778200" cy="581040"/>
          </a:xfrm>
        </p:grpSpPr>
        <p:sp>
          <p:nvSpPr>
            <p:cNvPr id="356" name="Freeform 37"/>
            <p:cNvSpPr/>
            <p:nvPr/>
          </p:nvSpPr>
          <p:spPr>
            <a:xfrm>
              <a:off x="703440" y="488952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8"/>
            <p:cNvSpPr/>
            <p:nvPr/>
          </p:nvSpPr>
          <p:spPr>
            <a:xfrm>
              <a:off x="908280" y="506412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1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9"/>
          <p:cNvGrpSpPr/>
          <p:nvPr/>
        </p:nvGrpSpPr>
        <p:grpSpPr>
          <a:xfrm>
            <a:off x="654120" y="5592600"/>
            <a:ext cx="3778200" cy="581040"/>
            <a:chOff x="654120" y="5592600"/>
            <a:chExt cx="3778200" cy="581040"/>
          </a:xfrm>
        </p:grpSpPr>
        <p:sp>
          <p:nvSpPr>
            <p:cNvPr id="359" name="Freeform 40"/>
            <p:cNvSpPr/>
            <p:nvPr/>
          </p:nvSpPr>
          <p:spPr>
            <a:xfrm>
              <a:off x="654120" y="5592600"/>
              <a:ext cx="3778200" cy="58104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41"/>
            <p:cNvSpPr/>
            <p:nvPr/>
          </p:nvSpPr>
          <p:spPr>
            <a:xfrm>
              <a:off x="858960" y="5767200"/>
              <a:ext cx="2910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a 0,75    a        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2"/>
          <p:cNvGrpSpPr/>
          <p:nvPr/>
        </p:nvGrpSpPr>
        <p:grpSpPr>
          <a:xfrm>
            <a:off x="498600" y="1144440"/>
            <a:ext cx="3778200" cy="796680"/>
            <a:chOff x="498600" y="1144440"/>
            <a:chExt cx="3778200" cy="796680"/>
          </a:xfrm>
        </p:grpSpPr>
        <p:sp>
          <p:nvSpPr>
            <p:cNvPr id="362" name="Freeform 43"/>
            <p:cNvSpPr/>
            <p:nvPr/>
          </p:nvSpPr>
          <p:spPr>
            <a:xfrm>
              <a:off x="498600" y="1144440"/>
              <a:ext cx="3778200" cy="796680"/>
            </a:xfrm>
            <a:custGeom>
              <a:avLst/>
              <a:gdLst>
                <a:gd name="textAreaLeft" fmla="*/ 0 w 3778200"/>
                <a:gd name="textAreaRight" fmla="*/ 3778560 w 37782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2618" h="415">
                  <a:moveTo>
                    <a:pt x="1661" y="414"/>
                  </a:moveTo>
                  <a:lnTo>
                    <a:pt x="1661" y="333"/>
                  </a:lnTo>
                  <a:lnTo>
                    <a:pt x="5" y="332"/>
                  </a:lnTo>
                  <a:lnTo>
                    <a:pt x="0" y="93"/>
                  </a:lnTo>
                  <a:lnTo>
                    <a:pt x="1652" y="93"/>
                  </a:lnTo>
                  <a:lnTo>
                    <a:pt x="1650" y="0"/>
                  </a:lnTo>
                  <a:lnTo>
                    <a:pt x="2617" y="208"/>
                  </a:lnTo>
                  <a:lnTo>
                    <a:pt x="1661" y="414"/>
                  </a:lnTo>
                  <a:lnTo>
                    <a:pt x="1661" y="414"/>
                  </a:ln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ff3300"/>
                </a:gs>
              </a:gsLst>
              <a:lin ang="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4"/>
            <p:cNvSpPr/>
            <p:nvPr/>
          </p:nvSpPr>
          <p:spPr>
            <a:xfrm>
              <a:off x="703440" y="1384200"/>
              <a:ext cx="29106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343080"/>
                  <a:tab algn="l" pos="685800"/>
                  <a:tab algn="l" pos="1028880"/>
                  <a:tab algn="l" pos="1371600"/>
                  <a:tab algn="l" pos="1714680"/>
                  <a:tab algn="l" pos="2057400"/>
                  <a:tab algn="l" pos="2400480"/>
                  <a:tab algn="l" pos="2743200"/>
                  <a:tab algn="l" pos="3086280"/>
                  <a:tab algn="l" pos="3429000"/>
                  <a:tab algn="l" pos="3772080"/>
                  <a:tab algn="l" pos="4114800"/>
                  <a:tab algn="l" pos="4457880"/>
                  <a:tab algn="l" pos="4800600"/>
                  <a:tab algn="l" pos="5143680"/>
                  <a:tab algn="l" pos="5486400"/>
                  <a:tab algn="l" pos="5829480"/>
                  <a:tab algn="l" pos="6172200"/>
                  <a:tab algn="l" pos="6515280"/>
                  <a:tab algn="l" pos="68580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Da 0,5    a          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CasellaDiTesto 1"/>
          <p:cNvSpPr/>
          <p:nvPr/>
        </p:nvSpPr>
        <p:spPr>
          <a:xfrm>
            <a:off x="498600" y="53640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ORTO N° PAZIENTI TOTALMENTE NON COLLABORANTI/ N° OPE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asellaDiTesto 47"/>
          <p:cNvSpPr/>
          <p:nvPr/>
        </p:nvSpPr>
        <p:spPr>
          <a:xfrm>
            <a:off x="477720" y="22399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APPORTO N° PAZIENTI PARZIALMENTE NON COLLABORANTI/ N° OPE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8132760" y="2943360"/>
            <a:ext cx="32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egnaposto piè di pagina 1"/>
          <p:cNvSpPr/>
          <p:nvPr/>
        </p:nvSpPr>
        <p:spPr>
          <a:xfrm>
            <a:off x="444600" y="6308640"/>
            <a:ext cx="522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Object 24"/>
          <p:cNvGraphicFramePr/>
          <p:nvPr/>
        </p:nvGraphicFramePr>
        <p:xfrm>
          <a:off x="468360" y="422280"/>
          <a:ext cx="177948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22280"/>
                    <a:ext cx="1779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4"/>
          <p:cNvSpPr/>
          <p:nvPr/>
        </p:nvSpPr>
        <p:spPr>
          <a:xfrm>
            <a:off x="2428560" y="3840120"/>
            <a:ext cx="1405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0 –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334600" y="2511360"/>
            <a:ext cx="1428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1,5-5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405160" y="1284120"/>
            <a:ext cx="740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&gt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130280" y="3440160"/>
            <a:ext cx="364572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ASSEN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TRASCURABI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143600" y="2530440"/>
            <a:ext cx="3114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MEDI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073400" y="1284120"/>
            <a:ext cx="3543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900" spc="-1" strike="noStrike">
                <a:solidFill>
                  <a:srgbClr val="006600"/>
                </a:solidFill>
                <a:latin typeface="Arial"/>
                <a:ea typeface="Arial"/>
              </a:rPr>
              <a:t>RISCHIO ELEVA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ttangolo 1"/>
          <p:cNvSpPr/>
          <p:nvPr/>
        </p:nvSpPr>
        <p:spPr>
          <a:xfrm>
            <a:off x="6840" y="-2700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PARTI: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PO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8360" y="4586400"/>
            <a:ext cx="8281800" cy="1442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2640" indent="-512640" algn="ctr"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2 STUDI DI ASSOCIAZIONE   RISCHIO/DANNO CON SOSTANZIALE CONFERMA DEL GRADO DI ASSOC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ctr">
              <a:tabLst>
                <a:tab algn="l" pos="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Arial"/>
                <a:ea typeface="Arial"/>
              </a:rPr>
              <a:t>(400 reparti e 6000 esp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piè di pagina 1"/>
          <p:cNvSpPr/>
          <p:nvPr/>
        </p:nvSpPr>
        <p:spPr>
          <a:xfrm>
            <a:off x="43812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Oval 2"/>
          <p:cNvSpPr/>
          <p:nvPr/>
        </p:nvSpPr>
        <p:spPr>
          <a:xfrm>
            <a:off x="539640" y="3933720"/>
            <a:ext cx="8066160" cy="21081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A MAPPATU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L RISCHIO = STRUMENT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 I DIVERSI ATTORI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AutoShape 3"/>
          <p:cNvGrpSpPr/>
          <p:nvPr/>
        </p:nvGrpSpPr>
        <p:grpSpPr>
          <a:xfrm>
            <a:off x="237960" y="476280"/>
            <a:ext cx="8186760" cy="1322280"/>
            <a:chOff x="237960" y="476280"/>
            <a:chExt cx="8186760" cy="1322280"/>
          </a:xfrm>
        </p:grpSpPr>
        <p:pic>
          <p:nvPicPr>
            <p:cNvPr id="381" name="AutoShape 3" descr=""/>
            <p:cNvPicPr/>
            <p:nvPr/>
          </p:nvPicPr>
          <p:blipFill>
            <a:blip r:embed="rId1"/>
            <a:stretch/>
          </p:blipFill>
          <p:spPr>
            <a:xfrm>
              <a:off x="237960" y="476280"/>
              <a:ext cx="81867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78000" y="617400"/>
              <a:ext cx="788328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LA GESTIONE AZIENDA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DEL RISCHIO DA MOVIMENTAZIONE PAZI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AutoShape 4"/>
          <p:cNvSpPr/>
          <p:nvPr/>
        </p:nvSpPr>
        <p:spPr>
          <a:xfrm rot="19466400">
            <a:off x="4804920" y="3044520"/>
            <a:ext cx="1295640" cy="4334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5"/>
          <p:cNvSpPr/>
          <p:nvPr/>
        </p:nvSpPr>
        <p:spPr>
          <a:xfrm>
            <a:off x="4581360" y="2046240"/>
            <a:ext cx="3814920" cy="792360"/>
          </a:xfrm>
          <a:prstGeom prst="ellipse">
            <a:avLst/>
          </a:prstGeom>
          <a:solidFill>
            <a:srgbClr val="b9ff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GLI ATTO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egnaposto piè di pagina 1"/>
          <p:cNvSpPr/>
          <p:nvPr/>
        </p:nvSpPr>
        <p:spPr>
          <a:xfrm>
            <a:off x="468360" y="630864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8669160" cy="24080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611280" y="1989000"/>
            <a:ext cx="7924680" cy="389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“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La mappatura dei rischi, …. Configur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un obiettivo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che non è astratto e fine a se stesso ma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serito in un processo permanente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, preceduto da una fase di censimento, 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finalizzato all’elaborazione di programmi partecipati a breve e medio termine di bonifiche  e necessarie verifica di efficacia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(Prof. Antonio Grieco -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ttangolo 3"/>
          <p:cNvSpPr/>
          <p:nvPr/>
        </p:nvSpPr>
        <p:spPr>
          <a:xfrm>
            <a:off x="318600" y="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QUALI STRUMENTI PER IL MC: 1) MAPO SCHEDA ANAMNE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324000" y="539640"/>
            <a:ext cx="8424720" cy="5445360"/>
          </a:xfrm>
          <a:prstGeom prst="rect">
            <a:avLst/>
          </a:prstGeom>
          <a:ln w="0">
            <a:noFill/>
          </a:ln>
        </p:spPr>
      </p:pic>
      <p:sp>
        <p:nvSpPr>
          <p:cNvPr id="391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ttangolo 3"/>
          <p:cNvSpPr/>
          <p:nvPr/>
        </p:nvSpPr>
        <p:spPr>
          <a:xfrm>
            <a:off x="335520" y="0"/>
            <a:ext cx="45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PO SCHEDA ANAMNESTICA SE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81160" y="549360"/>
            <a:ext cx="8611920" cy="549108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ttangolo 3"/>
          <p:cNvSpPr/>
          <p:nvPr/>
        </p:nvSpPr>
        <p:spPr>
          <a:xfrm>
            <a:off x="335160" y="0"/>
            <a:ext cx="45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PO SCHEDA ANAMNESTICA SIN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22"/>
          <p:cNvGraphicFramePr/>
          <p:nvPr/>
        </p:nvGraphicFramePr>
        <p:xfrm>
          <a:off x="289080" y="1268280"/>
          <a:ext cx="854208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268280"/>
                    <a:ext cx="85420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egnaposto piè di pagina 1"/>
          <p:cNvSpPr/>
          <p:nvPr/>
        </p:nvSpPr>
        <p:spPr>
          <a:xfrm>
            <a:off x="539640" y="63039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5"/>
          <p:cNvSpPr/>
          <p:nvPr/>
        </p:nvSpPr>
        <p:spPr>
          <a:xfrm>
            <a:off x="324000" y="476280"/>
            <a:ext cx="8494560" cy="662040"/>
          </a:xfrm>
          <a:prstGeom prst="ellipse">
            <a:avLst/>
          </a:prstGeom>
          <a:solidFill>
            <a:srgbClr val="ffbcb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estione dei soggetti con ridotte capacità lavo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ttangolo arrotondato 2"/>
          <p:cNvSpPr/>
          <p:nvPr/>
        </p:nvSpPr>
        <p:spPr>
          <a:xfrm>
            <a:off x="1447920" y="1484280"/>
            <a:ext cx="6408720" cy="93672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ME LEGGERE ED INTERPRETARE LA SCHEDA DI RILEVA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sellaDiTesto 3"/>
          <p:cNvSpPr/>
          <p:nvPr/>
        </p:nvSpPr>
        <p:spPr>
          <a:xfrm>
            <a:off x="649440" y="2852640"/>
            <a:ext cx="7777080" cy="642600"/>
          </a:xfrm>
          <a:prstGeom prst="rect">
            <a:avLst/>
          </a:prstGeom>
          <a:solidFill>
            <a:srgbClr val="e6e8ee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 ASPETTI/PARAMETRI CI SAREBB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LTERIORMENTE UTILI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sellaDiTesto 8"/>
          <p:cNvSpPr/>
          <p:nvPr/>
        </p:nvSpPr>
        <p:spPr>
          <a:xfrm>
            <a:off x="1692360" y="4292640"/>
            <a:ext cx="5975280" cy="1191240"/>
          </a:xfrm>
          <a:prstGeom prst="rect">
            <a:avLst/>
          </a:prstGeom>
          <a:solidFill>
            <a:srgbClr val="ffbab0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A SI ASPETTANO SITRA E COORDINATORI DI REPARTO PER RIUSCIRE A GESTIRE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egnaposto piè di pagina 1"/>
          <p:cNvSpPr/>
          <p:nvPr/>
        </p:nvSpPr>
        <p:spPr>
          <a:xfrm>
            <a:off x="53964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ttangolo 7"/>
          <p:cNvSpPr/>
          <p:nvPr/>
        </p:nvSpPr>
        <p:spPr>
          <a:xfrm>
            <a:off x="2863440" y="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QUALI STRUMENTI PER IL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ext Box 44" descr=""/>
          <p:cNvPicPr/>
          <p:nvPr/>
        </p:nvPicPr>
        <p:blipFill>
          <a:blip r:embed="rId1"/>
          <a:stretch/>
        </p:blipFill>
        <p:spPr>
          <a:xfrm>
            <a:off x="-92160" y="212760"/>
            <a:ext cx="8955000" cy="2646360"/>
          </a:xfrm>
          <a:prstGeom prst="rect">
            <a:avLst/>
          </a:prstGeom>
          <a:ln w="0">
            <a:noFill/>
          </a:ln>
        </p:spPr>
      </p:pic>
      <p:sp>
        <p:nvSpPr>
          <p:cNvPr id="257" name="CasellaDiTesto 1"/>
          <p:cNvSpPr/>
          <p:nvPr/>
        </p:nvSpPr>
        <p:spPr>
          <a:xfrm>
            <a:off x="1116000" y="37893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Prevenzione WMSDs e gestione dei soggetti patolog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piè di pagina 2"/>
          <p:cNvSpPr/>
          <p:nvPr/>
        </p:nvSpPr>
        <p:spPr>
          <a:xfrm>
            <a:off x="539640" y="623736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arrotondato 3"/>
          <p:cNvSpPr/>
          <p:nvPr/>
        </p:nvSpPr>
        <p:spPr>
          <a:xfrm>
            <a:off x="2843280" y="2781360"/>
            <a:ext cx="3960720" cy="647640"/>
          </a:xfrm>
          <a:prstGeom prst="roundRect">
            <a:avLst>
              <a:gd name="adj" fmla="val 16667"/>
            </a:avLst>
          </a:prstGeom>
          <a:solidFill>
            <a:srgbClr val="ccd1dd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ncipale Obiet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99840" y="2165400"/>
            <a:ext cx="760068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360" y="1341360"/>
            <a:ext cx="8136000" cy="57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20021"/>
                </a:solidFill>
                <a:latin typeface="Arial"/>
              </a:rPr>
              <a:t>FORZE INTERNE ED ESTERNE EC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468360" y="2781360"/>
            <a:ext cx="7634160" cy="504720"/>
          </a:xfrm>
          <a:prstGeom prst="roundRect">
            <a:avLst>
              <a:gd name="adj" fmla="val 16667"/>
            </a:avLst>
          </a:prstGeom>
          <a:solidFill>
            <a:srgbClr val="a86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microfratture piatto vertebrale + lesioni tessuti “mol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908000" y="4149720"/>
            <a:ext cx="4751640" cy="574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egener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1044720" y="5446800"/>
            <a:ext cx="6984720" cy="5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minuzione “TOLLERANZ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4067280" y="198900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4067280" y="335772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4140360" y="4797360"/>
            <a:ext cx="215640" cy="503280"/>
          </a:xfrm>
          <a:prstGeom prst="downArrow">
            <a:avLst>
              <a:gd name="adj1" fmla="val 50000"/>
              <a:gd name="adj2" fmla="val 7501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ttangolo 11"/>
          <p:cNvSpPr/>
          <p:nvPr/>
        </p:nvSpPr>
        <p:spPr>
          <a:xfrm>
            <a:off x="2268720" y="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EGEN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piè di pagina 1"/>
          <p:cNvSpPr/>
          <p:nvPr/>
        </p:nvSpPr>
        <p:spPr>
          <a:xfrm>
            <a:off x="57312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nello 2"/>
          <p:cNvSpPr/>
          <p:nvPr/>
        </p:nvSpPr>
        <p:spPr>
          <a:xfrm>
            <a:off x="5940360" y="1195560"/>
            <a:ext cx="2735280" cy="720720"/>
          </a:xfrm>
          <a:custGeom>
            <a:avLst/>
            <a:gdLst>
              <a:gd name="textAreaLeft" fmla="*/ 400320 w 2735280"/>
              <a:gd name="textAreaRight" fmla="*/ 2334960 w 273528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736304" h="720080">
                <a:moveTo>
                  <a:pt x="0" y="360040"/>
                </a:moveTo>
                <a:lnTo>
                  <a:pt x="0" y="360040"/>
                </a:lnTo>
                <a:arcTo wR="1368152" hR="360040" stAng="-10799995" swAng="5400005"/>
                <a:lnTo>
                  <a:pt x="1368153" y="2"/>
                </a:lnTo>
                <a:arcTo wR="1368152" hR="360040" stAng="-5400000" swAng="5400005"/>
                <a:lnTo>
                  <a:pt x="2736305" y="360044"/>
                </a:lnTo>
                <a:arcTo wR="1368152" hR="360040" stAng="0" swAng="5400000"/>
                <a:lnTo>
                  <a:pt x="1368153" y="720084"/>
                </a:lnTo>
                <a:arcTo wR="1368152" hR="360040" stAng="5400000" swAng="5400005"/>
                <a:close/>
                <a:moveTo>
                  <a:pt x="84739" y="360040"/>
                </a:moveTo>
                <a:lnTo>
                  <a:pt x="84739" y="360040"/>
                </a:lnTo>
                <a:arcTo wR="1283413" hR="275301" stAng="-10799997" swAng="-5400003"/>
                <a:lnTo>
                  <a:pt x="1368152" y="635342"/>
                </a:lnTo>
                <a:arcTo wR="1283413" hR="275301" stAng="5400000" swAng="-5399997"/>
                <a:lnTo>
                  <a:pt x="2651565" y="360042"/>
                </a:lnTo>
                <a:arcTo wR="1283413" hR="275301" stAng="0" swAng="-5400000"/>
                <a:lnTo>
                  <a:pt x="1368152" y="84741"/>
                </a:lnTo>
                <a:arcTo wR="1283413" hR="275301" stAng="-5400000" swAng="-5399997"/>
                <a:close/>
              </a:path>
            </a:pathLst>
          </a:custGeom>
          <a:solidFill>
            <a:srgbClr val="ad0101"/>
          </a:solidFill>
          <a:ln w="25560">
            <a:solidFill>
              <a:srgbClr val="7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Object 22"/>
          <p:cNvGraphicFramePr/>
          <p:nvPr/>
        </p:nvGraphicFramePr>
        <p:xfrm>
          <a:off x="611280" y="766800"/>
          <a:ext cx="784836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6800"/>
                    <a:ext cx="784836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Line 4"/>
          <p:cNvSpPr/>
          <p:nvPr/>
        </p:nvSpPr>
        <p:spPr>
          <a:xfrm flipV="1">
            <a:off x="1792440" y="4005360"/>
            <a:ext cx="60120" cy="89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5"/>
          <p:cNvSpPr/>
          <p:nvPr/>
        </p:nvSpPr>
        <p:spPr>
          <a:xfrm>
            <a:off x="1790640" y="4898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066760" y="473076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ico discale occas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1295280" y="37339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1308600" y="1916280"/>
            <a:ext cx="68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mite di tolleranza forze compressive rachide lomb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5867280" y="2666880"/>
            <a:ext cx="6098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6773400" y="320040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ra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c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 flipV="1">
            <a:off x="6400800" y="3124080"/>
            <a:ext cx="5335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1541880" y="5532480"/>
            <a:ext cx="55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ndamento del carico discale durante 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174680" y="1125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Carico d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249280" y="11462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850520" y="5522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egnaposto piè di pagina 1"/>
          <p:cNvSpPr/>
          <p:nvPr/>
        </p:nvSpPr>
        <p:spPr>
          <a:xfrm>
            <a:off x="539640" y="63039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16080" y="620280"/>
            <a:ext cx="85118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3300"/>
                </a:solidFill>
                <a:latin typeface="Arial"/>
              </a:rPr>
              <a:t>Secondo Modello di Sovraccarico del Rach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21"/>
          <p:cNvGraphicFramePr/>
          <p:nvPr/>
        </p:nvGraphicFramePr>
        <p:xfrm>
          <a:off x="826920" y="1731960"/>
          <a:ext cx="7848720" cy="46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31960"/>
                    <a:ext cx="78487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4"/>
          <p:cNvSpPr/>
          <p:nvPr/>
        </p:nvSpPr>
        <p:spPr>
          <a:xfrm>
            <a:off x="1295280" y="2362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imite di tolleranza della popo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591640" y="335268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argine di Sicurez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1981080" y="3962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 flipV="1">
            <a:off x="2362320" y="328428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466240" y="23623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ffatic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 flipH="1">
            <a:off x="4876920" y="266688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7543800" y="4038480"/>
            <a:ext cx="6094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7332480" y="3200400"/>
            <a:ext cx="11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Tra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umu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7010280" y="358128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3"/>
          <p:cNvSpPr/>
          <p:nvPr/>
        </p:nvSpPr>
        <p:spPr>
          <a:xfrm>
            <a:off x="7010280" y="3581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1958760" y="5410080"/>
            <a:ext cx="26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ico discale freq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5"/>
          <p:cNvSpPr/>
          <p:nvPr/>
        </p:nvSpPr>
        <p:spPr>
          <a:xfrm flipV="1">
            <a:off x="3505320" y="4343040"/>
            <a:ext cx="7596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6"/>
          <p:cNvSpPr/>
          <p:nvPr/>
        </p:nvSpPr>
        <p:spPr>
          <a:xfrm>
            <a:off x="7926480" y="563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1241280" y="1676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egnaposto piè di pagina 1"/>
          <p:cNvSpPr/>
          <p:nvPr/>
        </p:nvSpPr>
        <p:spPr>
          <a:xfrm>
            <a:off x="50148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463680" y="-189000"/>
            <a:ext cx="8326440" cy="132876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3"/>
          <p:cNvSpPr/>
          <p:nvPr/>
        </p:nvSpPr>
        <p:spPr>
          <a:xfrm>
            <a:off x="415800" y="1546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539640" y="549360"/>
            <a:ext cx="842508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DEFINIZIONE DI TRE LIVELLI  DI TOLLERANZA PER LA MOVIMENTAZIONE PAZI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4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50920" y="1571760"/>
          <a:ext cx="8893080" cy="4146480"/>
        </p:xfrm>
        <a:graphic>
          <a:graphicData uri="http://schemas.openxmlformats.org/drawingml/2006/table">
            <a:tbl>
              <a:tblPr/>
              <a:tblGrid>
                <a:gridCol w="1681200"/>
                <a:gridCol w="7211880"/>
              </a:tblGrid>
              <a:tr h="1280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KG !!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1585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KG  E 450!!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1280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IRCA 450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2050920" y="1849320"/>
            <a:ext cx="6747120" cy="647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"/>
          <p:cNvPicPr/>
          <p:nvPr/>
        </p:nvPicPr>
        <p:blipFill>
          <a:blip r:embed="rId3"/>
          <a:srcRect l="0" t="0" r="12557" b="0"/>
          <a:stretch/>
        </p:blipFill>
        <p:spPr>
          <a:xfrm>
            <a:off x="1944720" y="3141720"/>
            <a:ext cx="7113600" cy="1168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"/>
          <p:cNvPicPr/>
          <p:nvPr/>
        </p:nvPicPr>
        <p:blipFill>
          <a:blip r:embed="rId4"/>
          <a:stretch/>
        </p:blipFill>
        <p:spPr>
          <a:xfrm>
            <a:off x="2049480" y="4581360"/>
            <a:ext cx="7094520" cy="870120"/>
          </a:xfrm>
          <a:prstGeom prst="rect">
            <a:avLst/>
          </a:prstGeom>
          <a:ln w="0">
            <a:noFill/>
          </a:ln>
        </p:spPr>
      </p:pic>
      <p:sp>
        <p:nvSpPr>
          <p:cNvPr id="456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0" y="0"/>
            <a:ext cx="9144000" cy="1241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 Narrow"/>
              </a:rPr>
              <a:t>…</a:t>
            </a:r>
            <a:r>
              <a:rPr b="1" lang="en-GB" sz="3600" spc="-1" strike="noStrike">
                <a:solidFill>
                  <a:srgbClr val="006600"/>
                </a:solidFill>
                <a:latin typeface="Arial Narrow"/>
              </a:rPr>
              <a:t>. </a:t>
            </a:r>
            <a:r>
              <a:rPr b="1" i="1" lang="en-GB" sz="4000" spc="-1" strike="noStrike">
                <a:solidFill>
                  <a:srgbClr val="006600"/>
                </a:solidFill>
                <a:latin typeface="Arial Narrow"/>
              </a:rPr>
              <a:t>APPROCCIO DORTMUND (JAG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6600"/>
                </a:solidFill>
                <a:latin typeface="Arial Narrow"/>
              </a:rPr>
              <a:t>N.B.: SOLLEVAMENTI EFFETTUATI DA 1 OPE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837640" cy="1747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8837640" cy="777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8815320" cy="1506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8742240" cy="1027080"/>
          </a:xfrm>
          <a:prstGeom prst="rect">
            <a:avLst/>
          </a:prstGeom>
          <a:ln w="0">
            <a:noFill/>
          </a:ln>
        </p:spPr>
      </p:pic>
      <p:sp>
        <p:nvSpPr>
          <p:cNvPr id="462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-27000"/>
            <a:ext cx="9144000" cy="620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 Narrow"/>
              </a:rPr>
              <a:t>…</a:t>
            </a:r>
            <a:r>
              <a:rPr b="1" lang="en-GB" sz="3200" spc="-1" strike="noStrike">
                <a:solidFill>
                  <a:srgbClr val="006600"/>
                </a:solidFill>
                <a:latin typeface="Arial Narrow"/>
              </a:rPr>
              <a:t>. </a:t>
            </a:r>
            <a:r>
              <a:rPr b="1" i="1" lang="en-GB" sz="3600" spc="-1" strike="noStrike">
                <a:solidFill>
                  <a:srgbClr val="006600"/>
                </a:solidFill>
                <a:latin typeface="Arial Narrow"/>
              </a:rPr>
              <a:t>APPROCCIO DORTMUND (JAGER) A M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284040" y="907920"/>
            <a:ext cx="8535960" cy="3961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324000" y="5068800"/>
            <a:ext cx="8496000" cy="906480"/>
          </a:xfrm>
          <a:prstGeom prst="rect">
            <a:avLst/>
          </a:prstGeom>
          <a:ln w="0">
            <a:noFill/>
          </a:ln>
        </p:spPr>
      </p:pic>
      <p:sp>
        <p:nvSpPr>
          <p:cNvPr id="466" name="Segnaposto piè di pagina 1"/>
          <p:cNvSpPr/>
          <p:nvPr/>
        </p:nvSpPr>
        <p:spPr>
          <a:xfrm>
            <a:off x="32400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CasellaDiTesto 2"/>
          <p:cNvSpPr/>
          <p:nvPr/>
        </p:nvSpPr>
        <p:spPr>
          <a:xfrm>
            <a:off x="658800" y="34686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OVRACCARICO BIOMECCANICO (MARRAS – JAE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5840" cy="2992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693720" y="4365720"/>
            <a:ext cx="669960" cy="1541520"/>
          </a:xfrm>
          <a:prstGeom prst="rect">
            <a:avLst/>
          </a:prstGeom>
          <a:ln w="0">
            <a:noFill/>
          </a:ln>
        </p:spPr>
      </p:pic>
      <p:sp>
        <p:nvSpPr>
          <p:cNvPr id="470" name="Ovale 3"/>
          <p:cNvSpPr/>
          <p:nvPr/>
        </p:nvSpPr>
        <p:spPr>
          <a:xfrm>
            <a:off x="781200" y="3821040"/>
            <a:ext cx="495000" cy="504720"/>
          </a:xfrm>
          <a:prstGeom prst="ellipse">
            <a:avLst/>
          </a:prstGeom>
          <a:solidFill>
            <a:srgbClr val="9900cc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716120" y="3933720"/>
          <a:ext cx="6095880" cy="1968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VATO SOVRACCARICO BIOMECCANICO RACHIDE LOMBARE (PICC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 SOVRACCARICO BIOMECCANICO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SOVRACCARICO BIOMECC.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TTABILE SOVRACCARICO BIOM. RACHIDE LOMB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472" name="Segnaposto piè di pagina 1"/>
          <p:cNvSpPr/>
          <p:nvPr/>
        </p:nvSpPr>
        <p:spPr>
          <a:xfrm>
            <a:off x="50148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tangolo 8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15960" y="765000"/>
            <a:ext cx="8528040" cy="3052800"/>
          </a:xfrm>
          <a:prstGeom prst="rect">
            <a:avLst/>
          </a:prstGeom>
          <a:ln w="0">
            <a:noFill/>
          </a:ln>
        </p:spPr>
      </p:pic>
      <p:sp>
        <p:nvSpPr>
          <p:cNvPr id="475" name="Rettangolo arrotondato 3"/>
          <p:cNvSpPr/>
          <p:nvPr/>
        </p:nvSpPr>
        <p:spPr>
          <a:xfrm>
            <a:off x="900000" y="4292640"/>
            <a:ext cx="7417080" cy="108108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ANCA FORMAZIONE ADEGUATA E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ttangolo 6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9061200" cy="3243240"/>
          </a:xfrm>
          <a:prstGeom prst="rect">
            <a:avLst/>
          </a:prstGeom>
          <a:ln w="0">
            <a:noFill/>
          </a:ln>
        </p:spPr>
      </p:pic>
      <p:sp>
        <p:nvSpPr>
          <p:cNvPr id="479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Rettangolo arrotondato 3"/>
          <p:cNvGrpSpPr/>
          <p:nvPr/>
        </p:nvGrpSpPr>
        <p:grpSpPr>
          <a:xfrm>
            <a:off x="304920" y="4054320"/>
            <a:ext cx="8607240" cy="1839960"/>
            <a:chOff x="304920" y="4054320"/>
            <a:chExt cx="8607240" cy="1839960"/>
          </a:xfrm>
        </p:grpSpPr>
        <p:pic>
          <p:nvPicPr>
            <p:cNvPr id="481" name="Rettangolo arrotondato 3" descr=""/>
            <p:cNvPicPr/>
            <p:nvPr/>
          </p:nvPicPr>
          <p:blipFill>
            <a:blip r:embed="rId2"/>
            <a:stretch/>
          </p:blipFill>
          <p:spPr>
            <a:xfrm>
              <a:off x="304920" y="4054320"/>
              <a:ext cx="860724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41440" y="4294080"/>
              <a:ext cx="813276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OPERAZIONI DI MOVIMENTAZIONE PAZIENTI SEMPRE </a:t>
              </a:r>
              <a:r>
                <a:rPr b="1" lang="it-IT" sz="2800" spc="-1" strike="noStrike" u="sng">
                  <a:solidFill>
                    <a:srgbClr val="560b00"/>
                  </a:solidFill>
                  <a:uFillTx/>
                  <a:latin typeface="Arial"/>
                </a:rPr>
                <a:t>AUSILIATE</a:t>
              </a: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 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560b00"/>
                  </a:solidFill>
                  <a:latin typeface="Arial"/>
                </a:rPr>
                <a:t>CON FORMAZIONE PERMAN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ttangolo 6"/>
          <p:cNvSpPr/>
          <p:nvPr/>
        </p:nvSpPr>
        <p:spPr>
          <a:xfrm>
            <a:off x="324000" y="5400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2680"/>
                <a:tab algn="l" pos="765000"/>
                <a:tab algn="l" pos="1147680"/>
                <a:tab algn="l" pos="1530360"/>
                <a:tab algn="l" pos="1913040"/>
                <a:tab algn="l" pos="2295360"/>
                <a:tab algn="l" pos="2678040"/>
                <a:tab algn="l" pos="3060720"/>
                <a:tab algn="l" pos="3443400"/>
                <a:tab algn="l" pos="3825720"/>
                <a:tab algn="l" pos="4208400"/>
                <a:tab algn="l" pos="4591080"/>
                <a:tab algn="l" pos="4973760"/>
                <a:tab algn="l" pos="5356080"/>
                <a:tab algn="l" pos="5738760"/>
                <a:tab algn="l" pos="6121440"/>
                <a:tab algn="l" pos="6504120"/>
                <a:tab algn="l" pos="6886440"/>
                <a:tab algn="l" pos="7269120"/>
                <a:tab algn="l" pos="76518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RUMENTI PER IL MC: 2) L’INTERPRETAZIONE DELLE MOVIMEN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asellaDiTesto 2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solidFill>
            <a:srgbClr val="e6e8ee"/>
          </a:solidFill>
          <a:ln w="1908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 ASPETTI/PARAMETRI CI SAREBB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LTERIORMENTE UTILI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CasellaDiTesto 3"/>
          <p:cNvSpPr/>
          <p:nvPr/>
        </p:nvSpPr>
        <p:spPr>
          <a:xfrm>
            <a:off x="863640" y="1563840"/>
            <a:ext cx="7416720" cy="825480"/>
          </a:xfrm>
          <a:prstGeom prst="rect">
            <a:avLst/>
          </a:prstGeom>
          <a:solidFill>
            <a:srgbClr val="ffbab0"/>
          </a:solidFill>
          <a:ln w="9360">
            <a:solidFill>
              <a:srgbClr val="730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LOGIA DI TURNI EFFETTUATA DAI LAVORATORI NEL SETTORE ANAL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CasellaDiTesto 4"/>
          <p:cNvGrpSpPr/>
          <p:nvPr/>
        </p:nvGrpSpPr>
        <p:grpSpPr>
          <a:xfrm>
            <a:off x="785880" y="2487600"/>
            <a:ext cx="7572240" cy="987480"/>
            <a:chOff x="785880" y="2487600"/>
            <a:chExt cx="7572240" cy="987480"/>
          </a:xfrm>
        </p:grpSpPr>
        <p:pic>
          <p:nvPicPr>
            <p:cNvPr id="487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785880" y="2487600"/>
              <a:ext cx="75722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63640" y="2565360"/>
              <a:ext cx="741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CENTUALE DI SOLLEVAMENTI SPOSTAMENTI AUSILIATI PER TUR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CasellaDiTesto 5"/>
          <p:cNvSpPr/>
          <p:nvPr/>
        </p:nvSpPr>
        <p:spPr>
          <a:xfrm>
            <a:off x="863640" y="5229360"/>
            <a:ext cx="7416720" cy="459720"/>
          </a:xfrm>
          <a:prstGeom prst="rect">
            <a:avLst/>
          </a:prstGeom>
          <a:solidFill>
            <a:srgbClr val="560b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POLOGIA DI FORMAZIONE EFFETTU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rcRect l="2386" t="0" r="5390" b="0"/>
          <a:stretch/>
        </p:blipFill>
        <p:spPr>
          <a:xfrm>
            <a:off x="468360" y="3540240"/>
            <a:ext cx="8351640" cy="1544400"/>
          </a:xfrm>
          <a:prstGeom prst="rect">
            <a:avLst/>
          </a:prstGeom>
          <a:ln w="0">
            <a:noFill/>
          </a:ln>
        </p:spPr>
      </p:pic>
      <p:sp>
        <p:nvSpPr>
          <p:cNvPr id="491" name="Segnaposto piè di pagina 1"/>
          <p:cNvSpPr/>
          <p:nvPr/>
        </p:nvSpPr>
        <p:spPr>
          <a:xfrm>
            <a:off x="468360" y="628020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18960" indent="0" algn="ctr">
              <a:lnSpc>
                <a:spcPct val="10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700"/>
                </a:solidFill>
                <a:latin typeface="Arial"/>
              </a:rPr>
              <a:t>GLI “ATTORI” DEL PROCESSO DI GEST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1219320" y="2971800"/>
            <a:ext cx="6335640" cy="17478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LA GESTIONE DEL RISCHI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 MOVIMENTAZIONE MANUA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AZIENTI IN </a:t>
            </a: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SPEDA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4859280" y="1498680"/>
            <a:ext cx="3716280" cy="10666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30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CO COMPE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"/>
          <p:cNvSpPr/>
          <p:nvPr/>
        </p:nvSpPr>
        <p:spPr>
          <a:xfrm>
            <a:off x="395280" y="4869000"/>
            <a:ext cx="4248000" cy="12240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UFFICIO TEC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5219640" y="4973760"/>
            <a:ext cx="3600360" cy="1014120"/>
          </a:xfrm>
          <a:prstGeom prst="ellipse">
            <a:avLst/>
          </a:prstGeom>
          <a:solidFill>
            <a:srgbClr val="fcab4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FORMATORI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395280" y="1413000"/>
            <a:ext cx="3749760" cy="1008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IRETTORE GENER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RSPP, R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piè di pagina 1"/>
          <p:cNvSpPr/>
          <p:nvPr/>
        </p:nvSpPr>
        <p:spPr>
          <a:xfrm>
            <a:off x="792000" y="623736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OOML CEMOC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Object 16" descr="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3"/>
          <p:cNvSpPr/>
          <p:nvPr/>
        </p:nvSpPr>
        <p:spPr>
          <a:xfrm>
            <a:off x="3141720" y="2616120"/>
            <a:ext cx="34113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a6885"/>
                </a:solidFill>
                <a:latin typeface="Arial"/>
              </a:rPr>
              <a:t>Strategie preventive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ondi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4284720" y="476280"/>
            <a:ext cx="2316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utazione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194600" y="3352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2f2f2"/>
                </a:solidFill>
                <a:latin typeface="Arial"/>
              </a:rPr>
              <a:t>Procedura di scelta    attrezz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6019920" y="495288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2f2f2"/>
                </a:solidFill>
                <a:latin typeface="Arial"/>
              </a:rPr>
              <a:t>Dotazione di attrezzature adeg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Text Box 7" descr=""/>
          <p:cNvPicPr/>
          <p:nvPr/>
        </p:nvPicPr>
        <p:blipFill>
          <a:blip r:embed="rId2"/>
          <a:stretch/>
        </p:blipFill>
        <p:spPr>
          <a:xfrm>
            <a:off x="6778800" y="1566720"/>
            <a:ext cx="1365120" cy="9572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8"/>
          <p:cNvSpPr/>
          <p:nvPr/>
        </p:nvSpPr>
        <p:spPr>
          <a:xfrm>
            <a:off x="3276720" y="5410080"/>
            <a:ext cx="2133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mazione addestramento ope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1752480" y="4648320"/>
            <a:ext cx="1371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 lungo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762120" y="2971800"/>
            <a:ext cx="1676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2f2f2"/>
                </a:solidFill>
                <a:latin typeface="Arial"/>
              </a:rPr>
              <a:t>Interventi strut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2286000" y="99072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erifica effi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9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9660"/>
                            </p:stCondLst>
                            <p:childTnLst>
                              <p:par>
                                <p:cTn id="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egnaposto piè di pagina 1"/>
          <p:cNvSpPr/>
          <p:nvPr/>
        </p:nvSpPr>
        <p:spPr>
          <a:xfrm>
            <a:off x="395280" y="6303960"/>
            <a:ext cx="511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ttangolo arrotondato 2"/>
          <p:cNvSpPr/>
          <p:nvPr/>
        </p:nvSpPr>
        <p:spPr>
          <a:xfrm>
            <a:off x="395280" y="2151000"/>
            <a:ext cx="3568680" cy="91764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SSIMI APPUNT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rcRect l="0" t="13107" r="65725" b="0"/>
          <a:stretch/>
        </p:blipFill>
        <p:spPr>
          <a:xfrm>
            <a:off x="5508720" y="457200"/>
            <a:ext cx="32400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piè di pagina 1"/>
          <p:cNvSpPr/>
          <p:nvPr/>
        </p:nvSpPr>
        <p:spPr>
          <a:xfrm>
            <a:off x="1908000" y="6021360"/>
            <a:ext cx="81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o Scientifico Policlinico Mi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rcRect l="0" t="-395" r="0" b="47374"/>
          <a:stretch/>
        </p:blipFill>
        <p:spPr>
          <a:xfrm>
            <a:off x="468360" y="450720"/>
            <a:ext cx="8410680" cy="5354640"/>
          </a:xfrm>
          <a:prstGeom prst="rect">
            <a:avLst/>
          </a:prstGeom>
          <a:ln w="0">
            <a:noFill/>
          </a:ln>
        </p:spPr>
      </p:pic>
      <p:sp>
        <p:nvSpPr>
          <p:cNvPr id="507" name="CasellaDiTesto 4"/>
          <p:cNvSpPr/>
          <p:nvPr/>
        </p:nvSpPr>
        <p:spPr>
          <a:xfrm>
            <a:off x="32400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d0101"/>
                </a:solidFill>
                <a:latin typeface="Arial"/>
              </a:rPr>
              <a:t>Prossimi appuntamenti 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egnaposto piè di pagina 1"/>
          <p:cNvSpPr/>
          <p:nvPr/>
        </p:nvSpPr>
        <p:spPr>
          <a:xfrm>
            <a:off x="1908000" y="6021360"/>
            <a:ext cx="81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lo Scientifico Policlinico Mi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sellaDiTesto 4"/>
          <p:cNvSpPr/>
          <p:nvPr/>
        </p:nvSpPr>
        <p:spPr>
          <a:xfrm>
            <a:off x="32400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d0101"/>
                </a:solidFill>
                <a:latin typeface="Arial"/>
              </a:rPr>
              <a:t>Prossimi appuntamenti 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rcRect l="0" t="53477" r="0" b="0"/>
          <a:stretch/>
        </p:blipFill>
        <p:spPr>
          <a:xfrm>
            <a:off x="409680" y="981000"/>
            <a:ext cx="8410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755640" y="476280"/>
            <a:ext cx="7932600" cy="1645560"/>
          </a:xfrm>
          <a:prstGeom prst="rect">
            <a:avLst/>
          </a:prstGeom>
          <a:solidFill>
            <a:srgbClr val="9900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4000" spc="-1" strike="noStrike">
                <a:solidFill>
                  <a:srgbClr val="ffffcc"/>
                </a:solidFill>
                <a:latin typeface="Arial Narrow"/>
                <a:ea typeface="Arial Unicode MS"/>
              </a:rPr>
              <a:t>U.O. CEMOC  - E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800" spc="-1" strike="noStrike">
                <a:solidFill>
                  <a:srgbClr val="ffffcc"/>
                </a:solidFill>
                <a:latin typeface="Arial"/>
                <a:ea typeface="Arial Unicode MS"/>
              </a:rPr>
              <a:t>Dipartimento di Medicina Preventiva e del Lavoro – Clinica del Lavoro -MI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asellaDiTesto 1"/>
          <p:cNvSpPr/>
          <p:nvPr/>
        </p:nvSpPr>
        <p:spPr>
          <a:xfrm>
            <a:off x="1116000" y="2565360"/>
            <a:ext cx="70563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2060"/>
                </a:solidFill>
                <a:uFillTx/>
                <a:latin typeface="Arial"/>
              </a:rPr>
              <a:t>PER INFORMAZIONE CORSI/SEMINA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Segreteria  Miria Belviso 0250320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1"/>
              </a:rPr>
              <a:t>epmcorsi@tisca</a:t>
            </a:r>
            <a:r>
              <a:rPr b="0" lang="it-IT" sz="2000" spc="-1" strike="noStrike" u="sng">
                <a:solidFill>
                  <a:srgbClr val="d26900"/>
                </a:solidFill>
                <a:uFillTx/>
                <a:latin typeface="Arial"/>
                <a:hlinkClick r:id="rId2"/>
              </a:rPr>
              <a:t>li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Olga Menoni 02 50320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3"/>
              </a:rPr>
              <a:t>epmospedali@tiscal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Arial"/>
              </a:rPr>
              <a:t>Silvia Cairoli 0255032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26900"/>
                </a:solidFill>
                <a:uFillTx/>
                <a:latin typeface="Arial"/>
                <a:hlinkClick r:id="rId4"/>
              </a:rPr>
              <a:t>Silvia.cairoli@policlinico.mi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3"/>
          <p:cNvSpPr/>
          <p:nvPr/>
        </p:nvSpPr>
        <p:spPr>
          <a:xfrm>
            <a:off x="379440" y="1844640"/>
            <a:ext cx="3740040" cy="1546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Valutazione del risch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.Lgs 81/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912960" y="4005360"/>
            <a:ext cx="7546680" cy="1747800"/>
          </a:xfrm>
          <a:prstGeom prst="ellipse">
            <a:avLst/>
          </a:prstGeom>
          <a:solidFill>
            <a:srgbClr val="ffbcb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IGLIORE Gestione dei sogget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 rido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pacità lav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684360" y="777960"/>
            <a:ext cx="7796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c4559"/>
                </a:solidFill>
                <a:latin typeface="Arial"/>
              </a:rPr>
              <a:t>La collaborazione del MC alla valutazione del ris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4879800" y="2041560"/>
            <a:ext cx="3600720" cy="115236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30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RVEGL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ccia bidirezionale orizzontale 2"/>
          <p:cNvSpPr/>
          <p:nvPr/>
        </p:nvSpPr>
        <p:spPr>
          <a:xfrm>
            <a:off x="3780000" y="2492280"/>
            <a:ext cx="1223640" cy="289080"/>
          </a:xfrm>
          <a:prstGeom prst="leftRightArrow">
            <a:avLst>
              <a:gd name="adj1" fmla="val 50000"/>
              <a:gd name="adj2" fmla="val 49795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ccia in giù 3"/>
          <p:cNvSpPr/>
          <p:nvPr/>
        </p:nvSpPr>
        <p:spPr>
          <a:xfrm>
            <a:off x="4297320" y="2822400"/>
            <a:ext cx="297000" cy="107964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ffbab0"/>
          </a:solidFill>
          <a:ln w="25560">
            <a:solidFill>
              <a:srgbClr val="56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1"/>
          <p:cNvSpPr/>
          <p:nvPr/>
        </p:nvSpPr>
        <p:spPr>
          <a:xfrm>
            <a:off x="539640" y="6237360"/>
            <a:ext cx="52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760068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422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250920" y="1413000"/>
            <a:ext cx="849780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SPEDALE INDIRIZZATO A PAT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SE AC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tempo medio degenz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umento pazient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900000" y="4941720"/>
            <a:ext cx="70344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MENTO DEI SERVIZI AMBULATORI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647640" y="2997360"/>
            <a:ext cx="7704360" cy="17287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ddivisione in ALTA – MEDIA – B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NSITA’ DI CURA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IFFICOLTA’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FINIZIONE DEI SETTORI – REPA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“gruppo omogeneo” di espost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6"/>
          <p:cNvSpPr/>
          <p:nvPr/>
        </p:nvSpPr>
        <p:spPr>
          <a:xfrm>
            <a:off x="1658880" y="1413000"/>
            <a:ext cx="5713560" cy="79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ENZA” ORGA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116000" y="2757600"/>
            <a:ext cx="6913440" cy="163836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CESSITA’ DI DEFINIZION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ITI DIFFERENTI PER DIVE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GURE PROFESS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884160" y="4653000"/>
            <a:ext cx="7377120" cy="1297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arsa di ausili/attrezzature 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ARENZA DI 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L’UTILIZ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141800" y="2097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476280"/>
            <a:ext cx="889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11 – 2021 “STIMA DEL TREND DI INVECCHIAMENTO POPOLAZIONE INFERMIERIST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Guardini I, Deroma L et al 2011 – G. Ital. Med Lav E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4920" y="2205000"/>
            <a:ext cx="4579920" cy="2751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468360" y="1598760"/>
            <a:ext cx="4403520" cy="3506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arrotondato 1"/>
          <p:cNvSpPr/>
          <p:nvPr/>
        </p:nvSpPr>
        <p:spPr>
          <a:xfrm>
            <a:off x="4140360" y="5229360"/>
            <a:ext cx="4579920" cy="56484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25560">
            <a:solidFill>
              <a:srgbClr val="7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.B.: DATI FORNITI PRIMA DELLA RIFORMA PENSIONI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Connettore 2 4"/>
          <p:cNvCxnSpPr/>
          <p:nvPr/>
        </p:nvCxnSpPr>
        <p:spPr>
          <a:xfrm flipH="1">
            <a:off x="6516360" y="787320"/>
            <a:ext cx="72000" cy="1705680"/>
          </a:xfrm>
          <a:prstGeom prst="straightConnector1">
            <a:avLst/>
          </a:prstGeom>
          <a:ln w="19080">
            <a:solidFill>
              <a:srgbClr val="ad0000"/>
            </a:solidFill>
            <a:miter/>
            <a:tailEnd len="med" type="arrow" w="med"/>
          </a:ln>
        </p:spPr>
      </p:cxnSp>
      <p:pic>
        <p:nvPicPr>
          <p:cNvPr id="292" name="Picture 4" descr=""/>
          <p:cNvPicPr/>
          <p:nvPr/>
        </p:nvPicPr>
        <p:blipFill>
          <a:blip r:embed="rId3"/>
          <a:stretch/>
        </p:blipFill>
        <p:spPr>
          <a:xfrm>
            <a:off x="3975120" y="2114640"/>
            <a:ext cx="4973760" cy="251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680000"/>
          </a:xfrm>
          <a:prstGeom prst="rect">
            <a:avLst/>
          </a:prstGeom>
          <a:solidFill>
            <a:srgbClr val="fdd2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edee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228600" indent="0">
              <a:lnSpc>
                <a:spcPct val="127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404040"/>
                </a:solidFill>
                <a:latin typeface="Arial"/>
              </a:rPr>
              <a:t>NEL 1999 L’ATTIVITA’ ASSISTENZIALE ERA ORGANIZZATA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28600" indent="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IN TURNI (M-P-N) CHE SETTIMANALMENTE PREVEDEVANO   M – P – N – Rec – R – M – P … etc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PER PERIODI DI DEGENZA di 10 – 40 gg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DA INFERMIERI PROFESSIONALI (con ausiliari adibiti ad pulizie – approvvigionamento materiali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DIFFERENZIATA PER INDIRIZZO CLINICO BEN CONFRONTABILE IN DIVERSE AZIENDE OSPEDALIER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28600" indent="-182520">
              <a:lnSpc>
                <a:spcPct val="127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040"/>
                </a:solidFill>
                <a:latin typeface="Arial"/>
              </a:rPr>
              <a:t>CON PROCEDURE DI MMP TIPICHE DELL’INDIRIZZO CLINICO DEL REPARTO ANALIZZATO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6 – 2012 EVOLUZIONE DELLA TIPOLOGIA DI ASSISTE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egnaposto piè di pagina 1"/>
          <p:cNvSpPr/>
          <p:nvPr/>
        </p:nvSpPr>
        <p:spPr>
          <a:xfrm>
            <a:off x="477720" y="63039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olo 1" descr=""/>
          <p:cNvPicPr/>
          <p:nvPr/>
        </p:nvPicPr>
        <p:blipFill>
          <a:blip r:embed="rId1"/>
          <a:stretch/>
        </p:blipFill>
        <p:spPr>
          <a:xfrm>
            <a:off x="596880" y="384120"/>
            <a:ext cx="7791480" cy="1200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13840" y="1195560"/>
            <a:ext cx="8929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a vuol dire «turno in sesta, in quinta o in quarta ?»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24000" y="220500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131840"/>
                <a:gridCol w="153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24000" y="3573360"/>
          <a:ext cx="8569080" cy="97956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96920"/>
                <a:gridCol w="1132200"/>
                <a:gridCol w="12268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24000" y="5013360"/>
          <a:ext cx="8569080" cy="981000"/>
        </p:xfrm>
        <a:graphic>
          <a:graphicData uri="http://schemas.openxmlformats.org/drawingml/2006/table">
            <a:tbl>
              <a:tblPr/>
              <a:tblGrid>
                <a:gridCol w="1295280"/>
                <a:gridCol w="1049400"/>
                <a:gridCol w="1326960"/>
                <a:gridCol w="1008000"/>
                <a:gridCol w="1297080"/>
                <a:gridCol w="1055880"/>
                <a:gridCol w="1536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ole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b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e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pos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igg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ino+ not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  <p:sp>
        <p:nvSpPr>
          <p:cNvPr id="301" name="CasellaDiTesto 6"/>
          <p:cNvSpPr/>
          <p:nvPr/>
        </p:nvSpPr>
        <p:spPr>
          <a:xfrm>
            <a:off x="366840" y="1771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asellaDiTesto 7"/>
          <p:cNvSpPr/>
          <p:nvPr/>
        </p:nvSpPr>
        <p:spPr>
          <a:xfrm>
            <a:off x="304920" y="3213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asellaDiTesto 8"/>
          <p:cNvSpPr/>
          <p:nvPr/>
        </p:nvSpPr>
        <p:spPr>
          <a:xfrm>
            <a:off x="358560" y="4581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egnaposto piè di pagina 1"/>
          <p:cNvSpPr/>
          <p:nvPr/>
        </p:nvSpPr>
        <p:spPr>
          <a:xfrm>
            <a:off x="477720" y="6237360"/>
            <a:ext cx="522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OOML CEMOC - Fondazione IRCCS Cà G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01:50Z</dcterms:created>
  <dc:creator>DANIELA</dc:creator>
  <dc:description/>
  <dc:language>en-US</dc:language>
  <cp:lastModifiedBy>lalla</cp:lastModifiedBy>
  <cp:lastPrinted>2012-11-05T09:16:19Z</cp:lastPrinted>
  <dcterms:modified xsi:type="dcterms:W3CDTF">2013-04-04T07:06:24Z</dcterms:modified>
  <cp:revision>246</cp:revision>
  <dc:subject/>
  <dc:title>Presentazione standard di PowerPoint</dc:title>
</cp:coreProperties>
</file>