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E69-4768-4E41-9BA6-B8C286AB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8C6-9367-4F92-9FF1-290CFEBA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C71-1C66-42B8-A351-BAD90CB3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ED5-4D14-4EB2-9CF5-98EAB13B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184-7026-4E98-A054-683FE88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C72-97D7-4EE6-A80D-D079ED6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D2C-9E93-417F-A2C8-24B15154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6DB-DF33-4D81-9861-B55B36A7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D13-27D4-4568-8E91-122C68B4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C38-AC40-4368-88C4-82DA7CB6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1DA-2434-4C1E-91F5-5DAD87E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8A8-C96E-4BAA-B2D6-1BE68F9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C285-23BB-4311-A516-3829DA84897E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60B5-5373-4398-9825-FD2E8D1811A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857240"/>
            <a:ext cx="7643880" cy="1571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LA PREVENZIONE NEL LAVORO CHE CAMB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142920" y="457200"/>
            <a:ext cx="578628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ogo dell'Università di Bologna - link alla home page del Portale"/>
          <p:cNvPicPr/>
          <p:nvPr/>
        </p:nvPicPr>
        <p:blipFill>
          <a:blip r:embed="rId2"/>
          <a:stretch/>
        </p:blipFill>
        <p:spPr>
          <a:xfrm>
            <a:off x="5857920" y="243000"/>
            <a:ext cx="3071880" cy="97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PAPPAG~1\AppData\Local\Temp\marchio_RER_2009_RGB.jpg"/>
          <p:cNvPicPr/>
          <p:nvPr/>
        </p:nvPicPr>
        <p:blipFill>
          <a:blip r:embed="rId3"/>
          <a:stretch/>
        </p:blipFill>
        <p:spPr>
          <a:xfrm>
            <a:off x="428760" y="1285920"/>
            <a:ext cx="3786120" cy="500040"/>
          </a:xfrm>
          <a:prstGeom prst="rect">
            <a:avLst/>
          </a:prstGeom>
          <a:ln w="0">
            <a:noFill/>
          </a:ln>
        </p:spPr>
      </p:pic>
      <p:sp>
        <p:nvSpPr>
          <p:cNvPr id="45" name="Segnaposto numero diapositiv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82F9-E110-4A48-9508-DB7090EA315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9680" y="3214440"/>
            <a:ext cx="7929720" cy="157140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2146320"/>
                <a:tab algn="l" pos="4292640"/>
                <a:tab algn="l" pos="6438960"/>
                <a:tab algn="l" pos="8585280"/>
                <a:tab algn="l" pos="107316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Sicurezza del lavoro, appalti, esternalizzaz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2146320"/>
                <a:tab algn="l" pos="4292640"/>
                <a:tab algn="l" pos="6438960"/>
                <a:tab algn="l" pos="8585280"/>
                <a:tab algn="l" pos="107316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tra teoria e prassi applic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2146320"/>
                <a:tab algn="l" pos="4292640"/>
                <a:tab algn="l" pos="6438960"/>
                <a:tab algn="l" pos="8585280"/>
                <a:tab algn="l" pos="10731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ttangolo 6"/>
          <p:cNvSpPr/>
          <p:nvPr/>
        </p:nvSpPr>
        <p:spPr>
          <a:xfrm>
            <a:off x="2286000" y="4429080"/>
            <a:ext cx="6500880" cy="1592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BOLOGNA, 29 ottobre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ala Auditorium – Regione Emilia Romag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elazione introdut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illiam ALBERGHINI – Ausl Bolog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Quindi il tema è attualissi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18B6-8768-4349-A43E-31C18D4A746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umetto 2 4"/>
          <p:cNvSpPr/>
          <p:nvPr/>
        </p:nvSpPr>
        <p:spPr>
          <a:xfrm>
            <a:off x="250920" y="1052640"/>
            <a:ext cx="8569080" cy="2808000"/>
          </a:xfrm>
          <a:prstGeom prst="wedgeRoundRectCallout">
            <a:avLst>
              <a:gd name="adj1" fmla="val -4597"/>
              <a:gd name="adj2" fmla="val 69236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Calibri"/>
              </a:rPr>
              <a:t>discuterne adesso consente di </a:t>
            </a: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 metterne in evidenza tutte le contraddizioni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tangolo 6"/>
          <p:cNvSpPr/>
          <p:nvPr/>
        </p:nvSpPr>
        <p:spPr>
          <a:xfrm>
            <a:off x="755640" y="425916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compreso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l’intreccio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esistent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tra le condizioni di elevato rischio e disagio lavorativo e le corrispondenti condizioni di vi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ottotitolo 2" descr=""/>
          <p:cNvPicPr/>
          <p:nvPr/>
        </p:nvPicPr>
        <p:blipFill>
          <a:blip r:embed="rId1"/>
          <a:stretch/>
        </p:blipFill>
        <p:spPr>
          <a:xfrm>
            <a:off x="281160" y="2000160"/>
            <a:ext cx="9015120" cy="4864320"/>
          </a:xfrm>
          <a:prstGeom prst="rect">
            <a:avLst/>
          </a:prstGeom>
          <a:ln w="0">
            <a:noFill/>
          </a:ln>
        </p:spPr>
      </p:pic>
      <p:sp>
        <p:nvSpPr>
          <p:cNvPr id="8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853C-9D7E-4624-B3DD-5ABE53808BA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Fumetto 3 4" descr=""/>
          <p:cNvPicPr/>
          <p:nvPr/>
        </p:nvPicPr>
        <p:blipFill>
          <a:blip r:embed="rId2"/>
          <a:stretch/>
        </p:blipFill>
        <p:spPr>
          <a:xfrm>
            <a:off x="4479840" y="2755800"/>
            <a:ext cx="3853080" cy="2133720"/>
          </a:xfrm>
          <a:prstGeom prst="rect">
            <a:avLst/>
          </a:prstGeom>
          <a:ln w="0">
            <a:noFill/>
          </a:ln>
        </p:spPr>
      </p:pic>
      <p:pic>
        <p:nvPicPr>
          <p:cNvPr id="84" name="Fumetto 3 5" descr=""/>
          <p:cNvPicPr/>
          <p:nvPr/>
        </p:nvPicPr>
        <p:blipFill>
          <a:blip r:embed="rId3"/>
          <a:stretch/>
        </p:blipFill>
        <p:spPr>
          <a:xfrm>
            <a:off x="523800" y="244440"/>
            <a:ext cx="3835440" cy="1908360"/>
          </a:xfrm>
          <a:prstGeom prst="rect">
            <a:avLst/>
          </a:prstGeom>
          <a:ln w="0">
            <a:noFill/>
          </a:ln>
        </p:spPr>
      </p:pic>
      <p:pic>
        <p:nvPicPr>
          <p:cNvPr id="85" name="Fumetto 3 6" descr=""/>
          <p:cNvPicPr/>
          <p:nvPr/>
        </p:nvPicPr>
        <p:blipFill>
          <a:blip r:embed="rId4"/>
          <a:stretch/>
        </p:blipFill>
        <p:spPr>
          <a:xfrm>
            <a:off x="665280" y="2755800"/>
            <a:ext cx="3717720" cy="2346480"/>
          </a:xfrm>
          <a:prstGeom prst="rect">
            <a:avLst/>
          </a:prstGeom>
          <a:ln w="0">
            <a:noFill/>
          </a:ln>
        </p:spPr>
      </p:pic>
      <p:pic>
        <p:nvPicPr>
          <p:cNvPr id="86" name="Fumetto 3 7" descr=""/>
          <p:cNvPicPr/>
          <p:nvPr/>
        </p:nvPicPr>
        <p:blipFill>
          <a:blip r:embed="rId5"/>
          <a:stretch/>
        </p:blipFill>
        <p:spPr>
          <a:xfrm>
            <a:off x="4552920" y="244440"/>
            <a:ext cx="40370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0040" y="2428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n l’obiettivo della riduzione</a:t>
            </a:r>
            <a:br>
              <a:rPr sz="3200"/>
            </a:b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del costo del lavoro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AC3-EFCE-4E0D-9673-141F77ACDFA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Fumetto 2 7" descr=""/>
          <p:cNvPicPr/>
          <p:nvPr/>
        </p:nvPicPr>
        <p:blipFill>
          <a:blip r:embed="rId1"/>
          <a:stretch/>
        </p:blipFill>
        <p:spPr>
          <a:xfrm>
            <a:off x="1096920" y="384120"/>
            <a:ext cx="6797880" cy="2687760"/>
          </a:xfrm>
          <a:prstGeom prst="rect">
            <a:avLst/>
          </a:prstGeom>
          <a:ln w="0">
            <a:noFill/>
          </a:ln>
        </p:spPr>
      </p:pic>
      <p:pic>
        <p:nvPicPr>
          <p:cNvPr id="90" name="Rettangolo 8" descr=""/>
          <p:cNvPicPr/>
          <p:nvPr/>
        </p:nvPicPr>
        <p:blipFill>
          <a:blip r:embed="rId2"/>
          <a:stretch/>
        </p:blipFill>
        <p:spPr>
          <a:xfrm>
            <a:off x="171360" y="4230720"/>
            <a:ext cx="87170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D395-CB60-43F0-83D8-BE08204B4A4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tangolo 5"/>
          <p:cNvSpPr/>
          <p:nvPr/>
        </p:nvSpPr>
        <p:spPr>
          <a:xfrm flipV="1" rot="10800000">
            <a:off x="755280" y="45835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on un continuo cambiamento delle mappe dei rischi per la salute e  sicurezza di chi lavor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Fumetto 2 7" descr=""/>
          <p:cNvPicPr/>
          <p:nvPr/>
        </p:nvPicPr>
        <p:blipFill>
          <a:blip r:embed="rId1"/>
          <a:stretch/>
        </p:blipFill>
        <p:spPr>
          <a:xfrm>
            <a:off x="950760" y="890640"/>
            <a:ext cx="70470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28760" y="428760"/>
            <a:ext cx="8501040" cy="62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l’INAIL riporta che 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gli infortuni 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numericamente 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sono in calo</a:t>
            </a:r>
            <a:br>
              <a:rPr sz="3600"/>
            </a:b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(c’è anche l’effetto della disoccupazione),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e ne è cambiata la distribuzione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B383-1B68-4EFD-AE27-C1219AA48EF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Fumetto 2 5"/>
          <p:cNvGrpSpPr/>
          <p:nvPr/>
        </p:nvGrpSpPr>
        <p:grpSpPr>
          <a:xfrm>
            <a:off x="450720" y="2541600"/>
            <a:ext cx="8102880" cy="3352680"/>
            <a:chOff x="450720" y="2541600"/>
            <a:chExt cx="8102880" cy="3352680"/>
          </a:xfrm>
        </p:grpSpPr>
        <p:pic>
          <p:nvPicPr>
            <p:cNvPr id="97" name="Fumetto 2 5" descr=""/>
            <p:cNvPicPr/>
            <p:nvPr/>
          </p:nvPicPr>
          <p:blipFill>
            <a:blip r:embed="rId1"/>
            <a:stretch/>
          </p:blipFill>
          <p:spPr>
            <a:xfrm>
              <a:off x="450720" y="2541600"/>
              <a:ext cx="81028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04800" y="3206880"/>
              <a:ext cx="7790040" cy="25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800" spc="-1" strike="noStrike">
                  <a:solidFill>
                    <a:srgbClr val="ff0000"/>
                  </a:solidFill>
                  <a:latin typeface="Calibri"/>
                </a:rPr>
                <a:t>ma è un calo lentissimo che non rappresenta un cambiamento sostanziale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28760" y="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Si riducono quelle le malattie da lavoro tradizionali,</a:t>
            </a:r>
            <a:br>
              <a:rPr sz="3200"/>
            </a:b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anche per l’esportazione dei fattori di rischio che le determinavano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B80F-81F1-406A-94BD-11EF92C58A1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Fumetto 2 5"/>
          <p:cNvGrpSpPr/>
          <p:nvPr/>
        </p:nvGrpSpPr>
        <p:grpSpPr>
          <a:xfrm>
            <a:off x="811080" y="2193840"/>
            <a:ext cx="7742520" cy="3627360"/>
            <a:chOff x="811080" y="2193840"/>
            <a:chExt cx="7742520" cy="3627360"/>
          </a:xfrm>
        </p:grpSpPr>
        <p:pic>
          <p:nvPicPr>
            <p:cNvPr id="102" name="Fumetto 2 5" descr=""/>
            <p:cNvPicPr/>
            <p:nvPr/>
          </p:nvPicPr>
          <p:blipFill>
            <a:blip r:embed="rId1"/>
            <a:stretch/>
          </p:blipFill>
          <p:spPr>
            <a:xfrm>
              <a:off x="811080" y="2193840"/>
              <a:ext cx="774252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50760" y="3408480"/>
              <a:ext cx="7458120" cy="22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Calibri"/>
                </a:rPr>
                <a:t>ma ne stanno emergendo delle nuove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0000"/>
                  </a:solidFill>
                  <a:latin typeface="Calibri"/>
                </a:rPr>
                <a:t>definite come malattie correlate al lavoro,</a:t>
              </a:r>
              <a:br>
                <a:rPr sz="3200"/>
              </a:b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che hanno largamente superato le prime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ottotitolo 2" descr=""/>
          <p:cNvPicPr/>
          <p:nvPr/>
        </p:nvPicPr>
        <p:blipFill>
          <a:blip r:embed="rId1"/>
          <a:stretch/>
        </p:blipFill>
        <p:spPr>
          <a:xfrm>
            <a:off x="165240" y="-115920"/>
            <a:ext cx="8478720" cy="6980400"/>
          </a:xfrm>
          <a:prstGeom prst="rect">
            <a:avLst/>
          </a:prstGeom>
          <a:ln w="0">
            <a:noFill/>
          </a:ln>
        </p:spPr>
      </p:pic>
      <p:sp>
        <p:nvSpPr>
          <p:cNvPr id="10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387A-E8A6-4373-A8AF-D04789B3604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Fumetto 3 4" descr=""/>
          <p:cNvPicPr/>
          <p:nvPr/>
        </p:nvPicPr>
        <p:blipFill>
          <a:blip r:embed="rId2"/>
          <a:stretch/>
        </p:blipFill>
        <p:spPr>
          <a:xfrm>
            <a:off x="622440" y="2054160"/>
            <a:ext cx="2468520" cy="1249560"/>
          </a:xfrm>
          <a:prstGeom prst="rect">
            <a:avLst/>
          </a:prstGeom>
          <a:ln w="0">
            <a:noFill/>
          </a:ln>
        </p:spPr>
      </p:pic>
      <p:pic>
        <p:nvPicPr>
          <p:cNvPr id="107" name="Fumetto 3 5" descr=""/>
          <p:cNvPicPr/>
          <p:nvPr/>
        </p:nvPicPr>
        <p:blipFill>
          <a:blip r:embed="rId3"/>
          <a:stretch/>
        </p:blipFill>
        <p:spPr>
          <a:xfrm>
            <a:off x="6443640" y="1841400"/>
            <a:ext cx="2176560" cy="1505160"/>
          </a:xfrm>
          <a:prstGeom prst="rect">
            <a:avLst/>
          </a:prstGeom>
          <a:ln w="0">
            <a:noFill/>
          </a:ln>
        </p:spPr>
      </p:pic>
      <p:pic>
        <p:nvPicPr>
          <p:cNvPr id="108" name="Fumetto 3 6" descr=""/>
          <p:cNvPicPr/>
          <p:nvPr/>
        </p:nvPicPr>
        <p:blipFill>
          <a:blip r:embed="rId4"/>
          <a:stretch/>
        </p:blipFill>
        <p:spPr>
          <a:xfrm>
            <a:off x="2908440" y="1957320"/>
            <a:ext cx="1968480" cy="1316160"/>
          </a:xfrm>
          <a:prstGeom prst="rect">
            <a:avLst/>
          </a:prstGeom>
          <a:ln w="0">
            <a:noFill/>
          </a:ln>
        </p:spPr>
      </p:pic>
      <p:pic>
        <p:nvPicPr>
          <p:cNvPr id="109" name="Fumetto 3 7" descr=""/>
          <p:cNvPicPr/>
          <p:nvPr/>
        </p:nvPicPr>
        <p:blipFill>
          <a:blip r:embed="rId5"/>
          <a:stretch/>
        </p:blipFill>
        <p:spPr>
          <a:xfrm>
            <a:off x="4552920" y="1938240"/>
            <a:ext cx="2397240" cy="1438200"/>
          </a:xfrm>
          <a:prstGeom prst="rect">
            <a:avLst/>
          </a:prstGeom>
          <a:ln w="0">
            <a:noFill/>
          </a:ln>
        </p:spPr>
      </p:pic>
      <p:pic>
        <p:nvPicPr>
          <p:cNvPr id="110" name="Fumetto 3 8" descr=""/>
          <p:cNvPicPr/>
          <p:nvPr/>
        </p:nvPicPr>
        <p:blipFill>
          <a:blip r:embed="rId6"/>
          <a:stretch/>
        </p:blipFill>
        <p:spPr>
          <a:xfrm>
            <a:off x="523800" y="2919240"/>
            <a:ext cx="2895840" cy="1897200"/>
          </a:xfrm>
          <a:prstGeom prst="rect">
            <a:avLst/>
          </a:prstGeom>
          <a:ln w="0">
            <a:noFill/>
          </a:ln>
        </p:spPr>
      </p:pic>
      <p:pic>
        <p:nvPicPr>
          <p:cNvPr id="111" name="Fumetto 3 9" descr=""/>
          <p:cNvPicPr/>
          <p:nvPr/>
        </p:nvPicPr>
        <p:blipFill>
          <a:blip r:embed="rId7"/>
          <a:stretch/>
        </p:blipFill>
        <p:spPr>
          <a:xfrm>
            <a:off x="5553000" y="2444760"/>
            <a:ext cx="2421000" cy="2517840"/>
          </a:xfrm>
          <a:prstGeom prst="rect">
            <a:avLst/>
          </a:prstGeom>
          <a:ln w="0">
            <a:noFill/>
          </a:ln>
        </p:spPr>
      </p:pic>
      <p:pic>
        <p:nvPicPr>
          <p:cNvPr id="112" name="Fumetto 3 10" descr=""/>
          <p:cNvPicPr/>
          <p:nvPr/>
        </p:nvPicPr>
        <p:blipFill>
          <a:blip r:embed="rId8"/>
          <a:stretch/>
        </p:blipFill>
        <p:spPr>
          <a:xfrm>
            <a:off x="3340080" y="2773440"/>
            <a:ext cx="23954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71320" y="259920"/>
            <a:ext cx="8143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La quinta indagine europea sulle condizioni di lavoro (Eurofound  2012) ripor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31ED-C249-4B31-9668-76A7DFAAFD4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Fumetto 3 4"/>
          <p:cNvGrpSpPr/>
          <p:nvPr/>
        </p:nvGrpSpPr>
        <p:grpSpPr>
          <a:xfrm>
            <a:off x="304920" y="1414440"/>
            <a:ext cx="8461080" cy="4986360"/>
            <a:chOff x="304920" y="1414440"/>
            <a:chExt cx="8461080" cy="4986360"/>
          </a:xfrm>
        </p:grpSpPr>
        <p:pic>
          <p:nvPicPr>
            <p:cNvPr id="116" name="Fumetto 3 4" descr=""/>
            <p:cNvPicPr/>
            <p:nvPr/>
          </p:nvPicPr>
          <p:blipFill>
            <a:blip r:embed="rId1"/>
            <a:stretch/>
          </p:blipFill>
          <p:spPr>
            <a:xfrm>
              <a:off x="304920" y="1414440"/>
              <a:ext cx="846108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557360" y="2448000"/>
              <a:ext cx="5958000" cy="32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alibri"/>
                </a:rPr>
                <a:t>I rischi psicosociali che hanno un impatto negativo sulla salute ed il benessere includono: richieste pressanti e livelli di intensità lavorativa elevati, richieste emotive, mancanza di autonomia, conflitti etici e relazioni sociali insoddisfacenti, insicurezza del lavoro e dell’occupazion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71320" y="0"/>
            <a:ext cx="81435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(Ancora Eurofound  2012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FDC0-ACEC-488C-A5D9-2823BA093CB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Fumetto 3 4"/>
          <p:cNvGrpSpPr/>
          <p:nvPr/>
        </p:nvGrpSpPr>
        <p:grpSpPr>
          <a:xfrm>
            <a:off x="1054080" y="669960"/>
            <a:ext cx="4687920" cy="3786120"/>
            <a:chOff x="1054080" y="669960"/>
            <a:chExt cx="4687920" cy="3786120"/>
          </a:xfrm>
        </p:grpSpPr>
        <p:pic>
          <p:nvPicPr>
            <p:cNvPr id="121" name="Fumetto 3 4" descr=""/>
            <p:cNvPicPr/>
            <p:nvPr/>
          </p:nvPicPr>
          <p:blipFill>
            <a:blip r:embed="rId1"/>
            <a:stretch/>
          </p:blipFill>
          <p:spPr>
            <a:xfrm>
              <a:off x="1054080" y="669960"/>
              <a:ext cx="4687920" cy="37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752480" y="1747800"/>
              <a:ext cx="329112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alibri"/>
                </a:rPr>
                <a:t>I livelli di esposizione a rischi fisici sul posto di lavoro non sono diminuiti in modo significativo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Fumetto 3 5"/>
          <p:cNvSpPr/>
          <p:nvPr/>
        </p:nvSpPr>
        <p:spPr>
          <a:xfrm>
            <a:off x="5148360" y="1052640"/>
            <a:ext cx="3424320" cy="4305240"/>
          </a:xfrm>
          <a:prstGeom prst="wedgeEllipseCallout">
            <a:avLst>
              <a:gd name="adj1" fmla="val -16546"/>
              <a:gd name="adj2" fmla="val -58652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’esposizione a rischi psicosociali va di pari passo con l’esposizione a rischi fis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177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Le nostre osservazioni (mediamente 3800 imprese/anno controllate) conferma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(comparto costruzioni, manutenzione  impianti, trasporti e servizi del terziario arretrat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ED34-712C-4537-8395-4E79439C4E8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Fumetto 2 4"/>
          <p:cNvGrpSpPr/>
          <p:nvPr/>
        </p:nvGrpSpPr>
        <p:grpSpPr>
          <a:xfrm>
            <a:off x="950760" y="1066680"/>
            <a:ext cx="7577280" cy="3103560"/>
            <a:chOff x="950760" y="1066680"/>
            <a:chExt cx="7577280" cy="3103560"/>
          </a:xfrm>
        </p:grpSpPr>
        <p:pic>
          <p:nvPicPr>
            <p:cNvPr id="127" name="Fumetto 2 4" descr=""/>
            <p:cNvPicPr/>
            <p:nvPr/>
          </p:nvPicPr>
          <p:blipFill>
            <a:blip r:embed="rId1"/>
            <a:stretch/>
          </p:blipFill>
          <p:spPr>
            <a:xfrm>
              <a:off x="950760" y="1066680"/>
              <a:ext cx="757728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01600" y="1614600"/>
              <a:ext cx="727884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lang="it-IT" sz="36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processi lavorativi tradizionalmente a maggior rischio migliorano solo su un lento e non lineare inserimento di nuove attrezzature.</a:t>
              </a:r>
              <a:r>
                <a:rPr b="1" lang="it-IT" sz="36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EE62-5E1A-49D1-A54D-C6515673E83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umetto 2 7"/>
          <p:cNvSpPr/>
          <p:nvPr/>
        </p:nvSpPr>
        <p:spPr>
          <a:xfrm>
            <a:off x="539640" y="765000"/>
            <a:ext cx="8280360" cy="2519640"/>
          </a:xfrm>
          <a:prstGeom prst="wedgeRoundRectCallout">
            <a:avLst>
              <a:gd name="adj1" fmla="val -4351"/>
              <a:gd name="adj2" fmla="val 97875"/>
              <a:gd name="adj3" fmla="val 16667"/>
            </a:avLst>
          </a:prstGeom>
          <a:gradFill rotWithShape="0">
            <a:gsLst>
              <a:gs pos="0">
                <a:srgbClr val="85828a"/>
              </a:gs>
              <a:gs pos="100000">
                <a:srgbClr val="e6dfed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Ha senso parlare della prevenzione dei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rischi lavorativi </a:t>
            </a:r>
            <a:r>
              <a:rPr b="1" lang="it-IT" sz="4400" spc="-1" strike="noStrike">
                <a:solidFill>
                  <a:srgbClr val="262626"/>
                </a:solidFill>
                <a:latin typeface="Calibri"/>
              </a:rPr>
              <a:t>nel lavoro che cambia</a:t>
            </a:r>
            <a:r>
              <a:rPr b="1" lang="it-IT" sz="3200" spc="-1" strike="noStrike">
                <a:solidFill>
                  <a:srgbClr val="262626"/>
                </a:solidFill>
                <a:latin typeface="Calibri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ttangolo 8"/>
          <p:cNvSpPr/>
          <p:nvPr/>
        </p:nvSpPr>
        <p:spPr>
          <a:xfrm>
            <a:off x="539640" y="444492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in un periodo di</a:t>
            </a:r>
            <a:r>
              <a:rPr b="1" lang="it-IT" sz="4000" spc="-1" strike="noStrike">
                <a:solidFill>
                  <a:srgbClr val="262626"/>
                </a:solidFill>
                <a:latin typeface="Calibri"/>
              </a:rPr>
              <a:t> crisi economica che sta creando </a:t>
            </a: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disoccupazione</a:t>
            </a:r>
            <a:r>
              <a:rPr b="1" lang="it-IT" sz="3600" spc="-1" strike="noStrike">
                <a:solidFill>
                  <a:srgbClr val="262626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42600" y="856800"/>
            <a:ext cx="7929720" cy="55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alibri"/>
              </a:rPr>
              <a:t>(telecomunicazioni, sistemi informatici, commercio, servizi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0F28-BED3-464F-A87C-4710D406CD8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umetto 2 4"/>
          <p:cNvSpPr/>
          <p:nvPr/>
        </p:nvSpPr>
        <p:spPr>
          <a:xfrm>
            <a:off x="395280" y="620640"/>
            <a:ext cx="7848720" cy="3816360"/>
          </a:xfrm>
          <a:prstGeom prst="wedgeRoundRectCallout">
            <a:avLst>
              <a:gd name="adj1" fmla="val 1972"/>
              <a:gd name="adj2" fmla="val -56472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Nuovi lavori, introdotti dal  mercato e dall’innovazione tecnologica, nascono con  carenze di ergonomia degli ambienti, delle organizzazioni e delle mansioni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71320" y="928800"/>
            <a:ext cx="80722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perché pensato per le imprese strutturate,</a:t>
            </a:r>
            <a:r>
              <a:rPr b="1" lang="it-IT" sz="3000" spc="-1" strike="noStrike">
                <a:solidFill>
                  <a:srgbClr val="ff0000"/>
                </a:solidFill>
                <a:latin typeface="Calibri"/>
              </a:rPr>
              <a:t> in grado di integrare la prevenzione al processo produttivo, capaci di promuovere, favorire ed organizzare l’interazione e l’attività dei nuovi soggetti entrati in campo ( RSPP , MC e R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1368-D9FC-40AB-AB23-31D4D703466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Fumetto 2 4"/>
          <p:cNvGrpSpPr/>
          <p:nvPr/>
        </p:nvGrpSpPr>
        <p:grpSpPr>
          <a:xfrm>
            <a:off x="450720" y="676440"/>
            <a:ext cx="8102880" cy="3498840"/>
            <a:chOff x="450720" y="676440"/>
            <a:chExt cx="8102880" cy="3498840"/>
          </a:xfrm>
        </p:grpSpPr>
        <p:pic>
          <p:nvPicPr>
            <p:cNvPr id="135" name="Fumetto 2 4" descr=""/>
            <p:cNvPicPr/>
            <p:nvPr/>
          </p:nvPicPr>
          <p:blipFill>
            <a:blip r:embed="rId1"/>
            <a:stretch/>
          </p:blipFill>
          <p:spPr>
            <a:xfrm>
              <a:off x="450720" y="676440"/>
              <a:ext cx="810288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1280" y="836640"/>
              <a:ext cx="777708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Il</a:t>
              </a:r>
              <a:r>
                <a:rPr b="1" lang="it-IT" sz="4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modello di prevenzione introdotto </a:t>
              </a:r>
              <a:r>
                <a:rPr b="1" lang="it-IT" sz="4400" spc="-1" strike="noStrike">
                  <a:solidFill>
                    <a:srgbClr val="ff0000"/>
                  </a:solidFill>
                  <a:latin typeface="Calibri"/>
                </a:rPr>
                <a:t>nel nostro Paese </a:t>
              </a: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dalla norma europea recepita nel 1994</a:t>
              </a:r>
              <a:r>
                <a:rPr b="1" lang="it-IT" sz="4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non decolla,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7929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In altri termini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perchè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lo stravolgimento dei sistemi produttivi non ha consentito la nascita né della cultura, né dell’organizzazione necessarie.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DEA0-F5E4-4D88-83BF-3DFD0762587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Fumetto 2 4"/>
          <p:cNvGrpSpPr/>
          <p:nvPr/>
        </p:nvGrpSpPr>
        <p:grpSpPr>
          <a:xfrm>
            <a:off x="450720" y="890640"/>
            <a:ext cx="8242560" cy="4041720"/>
            <a:chOff x="450720" y="890640"/>
            <a:chExt cx="8242560" cy="4041720"/>
          </a:xfrm>
        </p:grpSpPr>
        <p:pic>
          <p:nvPicPr>
            <p:cNvPr id="140" name="Fumetto 2 4" descr=""/>
            <p:cNvPicPr/>
            <p:nvPr/>
          </p:nvPicPr>
          <p:blipFill>
            <a:blip r:embed="rId1"/>
            <a:stretch/>
          </p:blipFill>
          <p:spPr>
            <a:xfrm>
              <a:off x="450720" y="890640"/>
              <a:ext cx="824256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28560" y="1069920"/>
              <a:ext cx="788688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00"/>
                  </a:solidFill>
                  <a:latin typeface="Calibri"/>
                </a:rPr>
                <a:t>la ridefinizione del ruolo delle imprese non ha spostato l’asse  dell’azione preventiva,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80326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perché deve continuare a tutelare ampie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categorie di lavoratori esposti a rischi grav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per la loro incolumità e  salute, che lavorano in imprese con aleatori sistemi di prevenzi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9CB4-8F79-41D9-97C8-E3ACDC68E7A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Fumetto 2 4"/>
          <p:cNvGrpSpPr/>
          <p:nvPr/>
        </p:nvGrpSpPr>
        <p:grpSpPr>
          <a:xfrm>
            <a:off x="158760" y="817560"/>
            <a:ext cx="8826480" cy="3174840"/>
            <a:chOff x="158760" y="817560"/>
            <a:chExt cx="8826480" cy="3174840"/>
          </a:xfrm>
        </p:grpSpPr>
        <p:pic>
          <p:nvPicPr>
            <p:cNvPr id="145" name="Fumetto 2 4" descr=""/>
            <p:cNvPicPr/>
            <p:nvPr/>
          </p:nvPicPr>
          <p:blipFill>
            <a:blip r:embed="rId1"/>
            <a:stretch/>
          </p:blipFill>
          <p:spPr>
            <a:xfrm>
              <a:off x="158760" y="817560"/>
              <a:ext cx="882648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06360" y="963720"/>
              <a:ext cx="8531280" cy="23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800" spc="-1" strike="noStrike">
                  <a:solidFill>
                    <a:srgbClr val="000000"/>
                  </a:solidFill>
                  <a:latin typeface="Calibri"/>
                </a:rPr>
                <a:t>Anche la vigilanza svolta dalle istituzioni è condizionata dal cambiamento,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Molti sono precari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Molti lavorano in imprese inconsistenti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Molti sono lavoratori autonomi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Molti non sono rappresentati da nessuno e sono privi di un qualunque potere di autotutel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006C-739C-45AE-BEFB-FD1BB9E24F3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umetto 2 4"/>
          <p:cNvSpPr/>
          <p:nvPr/>
        </p:nvSpPr>
        <p:spPr>
          <a:xfrm>
            <a:off x="539640" y="260280"/>
            <a:ext cx="8209080" cy="1656000"/>
          </a:xfrm>
          <a:prstGeom prst="wedgeRoundRectCallout">
            <a:avLst>
              <a:gd name="adj1" fmla="val 2388"/>
              <a:gd name="adj2" fmla="val 70277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La maggior parte di questi lavoratori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fanno parte del sistema degli appalt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in collaborazione con la Direzione Territoriale del Lavoro e con il supporto scientifico dell’Università di Bologna-Dipartimento Scienze Giuridiche per l’analisi giuridico-economica dei contesti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7435-A448-4C11-82DA-C545E159002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Fumetto 2 4"/>
          <p:cNvGrpSpPr/>
          <p:nvPr/>
        </p:nvGrpSpPr>
        <p:grpSpPr>
          <a:xfrm>
            <a:off x="738360" y="743040"/>
            <a:ext cx="7815240" cy="3311280"/>
            <a:chOff x="738360" y="743040"/>
            <a:chExt cx="7815240" cy="3311280"/>
          </a:xfrm>
        </p:grpSpPr>
        <p:pic>
          <p:nvPicPr>
            <p:cNvPr id="153" name="Fumetto 2 4" descr=""/>
            <p:cNvPicPr/>
            <p:nvPr/>
          </p:nvPicPr>
          <p:blipFill>
            <a:blip r:embed="rId1"/>
            <a:stretch/>
          </p:blipFill>
          <p:spPr>
            <a:xfrm>
              <a:off x="738360" y="743040"/>
              <a:ext cx="781524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900000" y="907920"/>
              <a:ext cx="7488360" cy="26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Per queste ragioni, secondo il</a:t>
              </a:r>
              <a:r>
                <a:rPr b="1" lang="it-IT" sz="36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it-IT" sz="3600" spc="-1" strike="noStrike">
                  <a:solidFill>
                    <a:srgbClr val="000000"/>
                  </a:solidFill>
                  <a:latin typeface="Calibri"/>
                </a:rPr>
                <a:t>criterio della gravità e diffusione dei rischi,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ff0000"/>
                  </a:solidFill>
                  <a:latin typeface="Calibri"/>
                </a:rPr>
                <a:t>è partito nel 2011 il progetto di vigilanza sul sistema degli appalti,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B311-59A1-44B5-A45A-83C921CB618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umetto 2 4"/>
          <p:cNvSpPr/>
          <p:nvPr/>
        </p:nvSpPr>
        <p:spPr>
          <a:xfrm>
            <a:off x="250920" y="357120"/>
            <a:ext cx="8642160" cy="2855880"/>
          </a:xfrm>
          <a:prstGeom prst="wedgeRoundRectCallout">
            <a:avLst>
              <a:gd name="adj1" fmla="val 490"/>
              <a:gd name="adj2" fmla="val 91699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La vigilanza è attualmente uno strumento indispensabile per far applicare le leggi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ttangolo 6"/>
          <p:cNvSpPr/>
          <p:nvPr/>
        </p:nvSpPr>
        <p:spPr>
          <a:xfrm>
            <a:off x="1187280" y="4581360"/>
            <a:ext cx="71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Nel sistema degli appalti ci sono molte regole non scritte che favoriscono la ricerca di scorciato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Come si vede nel prospetto che segue, occorre l’azione anche di alt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3982-EFD6-4237-AAF1-3EC9EC697B0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umetto 2 4"/>
          <p:cNvSpPr/>
          <p:nvPr/>
        </p:nvSpPr>
        <p:spPr>
          <a:xfrm>
            <a:off x="1000080" y="500040"/>
            <a:ext cx="6143760" cy="3286080"/>
          </a:xfrm>
          <a:prstGeom prst="wedgeRoundRectCallout">
            <a:avLst>
              <a:gd name="adj1" fmla="val -3361"/>
              <a:gd name="adj2" fmla="val 71574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La vigilanza è necessaria ma non sufficient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uppo 43"/>
          <p:cNvGrpSpPr/>
          <p:nvPr/>
        </p:nvGrpSpPr>
        <p:grpSpPr>
          <a:xfrm>
            <a:off x="3059280" y="620640"/>
            <a:ext cx="2160360" cy="1800720"/>
            <a:chOff x="3059280" y="620640"/>
            <a:chExt cx="2160360" cy="1800720"/>
          </a:xfrm>
        </p:grpSpPr>
        <p:grpSp>
          <p:nvGrpSpPr>
            <p:cNvPr id="163" name="Rettangolo arrotondato 3"/>
            <p:cNvGrpSpPr/>
            <p:nvPr/>
          </p:nvGrpSpPr>
          <p:grpSpPr>
            <a:xfrm>
              <a:off x="3059280" y="620640"/>
              <a:ext cx="2160360" cy="981000"/>
              <a:chOff x="3059280" y="620640"/>
              <a:chExt cx="2160360" cy="981000"/>
            </a:xfrm>
          </p:grpSpPr>
          <p:pic>
            <p:nvPicPr>
              <p:cNvPr id="164" name="Rettangolo arrotondato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059280" y="620640"/>
                <a:ext cx="2160360" cy="9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3156120" y="746640"/>
                <a:ext cx="197280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Politiche Economiche e di Mercat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66" name="Connettore 2 17"/>
            <p:cNvCxnSpPr/>
            <p:nvPr/>
          </p:nvCxnSpPr>
          <p:spPr>
            <a:xfrm>
              <a:off x="4143240" y="1528920"/>
              <a:ext cx="68400" cy="8928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67" name="Gruppo 44"/>
          <p:cNvGrpSpPr/>
          <p:nvPr/>
        </p:nvGrpSpPr>
        <p:grpSpPr>
          <a:xfrm>
            <a:off x="4787640" y="1125360"/>
            <a:ext cx="2664000" cy="1366920"/>
            <a:chOff x="4787640" y="1125360"/>
            <a:chExt cx="2664000" cy="1366920"/>
          </a:xfrm>
        </p:grpSpPr>
        <p:grpSp>
          <p:nvGrpSpPr>
            <p:cNvPr id="168" name="Rettangolo arrotondato 4"/>
            <p:cNvGrpSpPr/>
            <p:nvPr/>
          </p:nvGrpSpPr>
          <p:grpSpPr>
            <a:xfrm>
              <a:off x="5216040" y="1125360"/>
              <a:ext cx="2235600" cy="961560"/>
              <a:chOff x="5216040" y="1125360"/>
              <a:chExt cx="2235600" cy="961560"/>
            </a:xfrm>
          </p:grpSpPr>
          <p:pic>
            <p:nvPicPr>
              <p:cNvPr id="169" name="Rettangolo arrotondato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6040" y="1125360"/>
                <a:ext cx="2235600" cy="96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316120" y="1248480"/>
                <a:ext cx="20084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Caratteristiche delle filiere e dei cicli produttiv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71" name="Connettore 2 18"/>
            <p:cNvCxnSpPr/>
            <p:nvPr/>
          </p:nvCxnSpPr>
          <p:spPr>
            <a:xfrm flipH="1">
              <a:off x="4787640" y="1816920"/>
              <a:ext cx="418320" cy="67572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2" name="Gruppo 45"/>
          <p:cNvGrpSpPr/>
          <p:nvPr/>
        </p:nvGrpSpPr>
        <p:grpSpPr>
          <a:xfrm>
            <a:off x="5434920" y="2133720"/>
            <a:ext cx="2666160" cy="863640"/>
            <a:chOff x="5434920" y="2133720"/>
            <a:chExt cx="2666160" cy="863640"/>
          </a:xfrm>
        </p:grpSpPr>
        <p:grpSp>
          <p:nvGrpSpPr>
            <p:cNvPr id="173" name="Rettangolo arrotondato 5"/>
            <p:cNvGrpSpPr/>
            <p:nvPr/>
          </p:nvGrpSpPr>
          <p:grpSpPr>
            <a:xfrm>
              <a:off x="5867640" y="2133720"/>
              <a:ext cx="2233440" cy="863640"/>
              <a:chOff x="5867640" y="2133720"/>
              <a:chExt cx="2233440" cy="863640"/>
            </a:xfrm>
          </p:grpSpPr>
          <p:pic>
            <p:nvPicPr>
              <p:cNvPr id="174" name="Rettangolo arrotondato 5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640" y="2133720"/>
                <a:ext cx="223344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970960" y="2203200"/>
                <a:ext cx="203472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Pericoli e Rischi dei processi produttiv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76" name="Connettore 2 20"/>
            <p:cNvCxnSpPr/>
            <p:nvPr/>
          </p:nvCxnSpPr>
          <p:spPr>
            <a:xfrm flipH="1">
              <a:off x="5434920" y="2611800"/>
              <a:ext cx="423720" cy="25596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7" name="Gruppo 46"/>
          <p:cNvGrpSpPr/>
          <p:nvPr/>
        </p:nvGrpSpPr>
        <p:grpSpPr>
          <a:xfrm>
            <a:off x="5508360" y="3213000"/>
            <a:ext cx="2951280" cy="863640"/>
            <a:chOff x="5508360" y="3213000"/>
            <a:chExt cx="2951280" cy="863640"/>
          </a:xfrm>
        </p:grpSpPr>
        <p:grpSp>
          <p:nvGrpSpPr>
            <p:cNvPr id="178" name="Rettangolo arrotondato 6"/>
            <p:cNvGrpSpPr/>
            <p:nvPr/>
          </p:nvGrpSpPr>
          <p:grpSpPr>
            <a:xfrm>
              <a:off x="6228360" y="3213000"/>
              <a:ext cx="2231280" cy="863640"/>
              <a:chOff x="6228360" y="3213000"/>
              <a:chExt cx="2231280" cy="863640"/>
            </a:xfrm>
          </p:grpSpPr>
          <p:pic>
            <p:nvPicPr>
              <p:cNvPr id="179" name="Rettangolo arrotondato 6" descr=""/>
              <p:cNvPicPr/>
              <p:nvPr/>
            </p:nvPicPr>
            <p:blipFill>
              <a:blip r:embed="rId4"/>
              <a:stretch/>
            </p:blipFill>
            <p:spPr>
              <a:xfrm>
                <a:off x="6228360" y="3213000"/>
                <a:ext cx="22312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6326640" y="3320640"/>
                <a:ext cx="2036520" cy="65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Tecnologie disponibili ed applicat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81" name="Connettore 2 22"/>
            <p:cNvCxnSpPr/>
            <p:nvPr/>
          </p:nvCxnSpPr>
          <p:spPr>
            <a:xfrm flipH="1" flipV="1">
              <a:off x="5508360" y="3466800"/>
              <a:ext cx="706320" cy="18252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82" name="Gruppo 47"/>
          <p:cNvGrpSpPr/>
          <p:nvPr/>
        </p:nvGrpSpPr>
        <p:grpSpPr>
          <a:xfrm>
            <a:off x="5148000" y="4005000"/>
            <a:ext cx="2953080" cy="1152720"/>
            <a:chOff x="5148000" y="4005000"/>
            <a:chExt cx="2953080" cy="1152720"/>
          </a:xfrm>
        </p:grpSpPr>
        <p:grpSp>
          <p:nvGrpSpPr>
            <p:cNvPr id="183" name="Rettangolo arrotondato 7"/>
            <p:cNvGrpSpPr/>
            <p:nvPr/>
          </p:nvGrpSpPr>
          <p:grpSpPr>
            <a:xfrm>
              <a:off x="5862960" y="4194360"/>
              <a:ext cx="2238120" cy="963360"/>
              <a:chOff x="5862960" y="4194360"/>
              <a:chExt cx="2238120" cy="963360"/>
            </a:xfrm>
          </p:grpSpPr>
          <p:pic>
            <p:nvPicPr>
              <p:cNvPr id="184" name="Rettangolo arrotondato 7" descr=""/>
              <p:cNvPicPr/>
              <p:nvPr/>
            </p:nvPicPr>
            <p:blipFill>
              <a:blip r:embed="rId5"/>
              <a:stretch/>
            </p:blipFill>
            <p:spPr>
              <a:xfrm>
                <a:off x="5862960" y="4194360"/>
                <a:ext cx="2238120" cy="9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5967000" y="4316040"/>
                <a:ext cx="203832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Struttura ed organizzazione aziendal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86" name="Connettore 2 25"/>
            <p:cNvCxnSpPr/>
            <p:nvPr/>
          </p:nvCxnSpPr>
          <p:spPr>
            <a:xfrm flipH="1" flipV="1">
              <a:off x="5148000" y="4005000"/>
              <a:ext cx="707760" cy="54288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87" name="Gruppo 48"/>
          <p:cNvGrpSpPr/>
          <p:nvPr/>
        </p:nvGrpSpPr>
        <p:grpSpPr>
          <a:xfrm>
            <a:off x="4787640" y="4075920"/>
            <a:ext cx="2737080" cy="2089800"/>
            <a:chOff x="4787640" y="4075920"/>
            <a:chExt cx="2737080" cy="2089800"/>
          </a:xfrm>
        </p:grpSpPr>
        <p:grpSp>
          <p:nvGrpSpPr>
            <p:cNvPr id="188" name="Rettangolo arrotondato 8"/>
            <p:cNvGrpSpPr/>
            <p:nvPr/>
          </p:nvGrpSpPr>
          <p:grpSpPr>
            <a:xfrm>
              <a:off x="5293800" y="5227920"/>
              <a:ext cx="2230920" cy="937800"/>
              <a:chOff x="5293800" y="5227920"/>
              <a:chExt cx="2230920" cy="937800"/>
            </a:xfrm>
          </p:grpSpPr>
          <p:pic>
            <p:nvPicPr>
              <p:cNvPr id="189" name="Rettangolo arrotondato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293800" y="5227920"/>
                <a:ext cx="2230920" cy="93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5394600" y="5302080"/>
                <a:ext cx="203724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Mercato del Lavor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91" name="Connettore 2 27"/>
            <p:cNvCxnSpPr/>
            <p:nvPr/>
          </p:nvCxnSpPr>
          <p:spPr>
            <a:xfrm flipH="1" flipV="1">
              <a:off x="4787640" y="4075920"/>
              <a:ext cx="635760" cy="118476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92" name="Gruppo 49"/>
          <p:cNvGrpSpPr/>
          <p:nvPr/>
        </p:nvGrpSpPr>
        <p:grpSpPr>
          <a:xfrm>
            <a:off x="2700360" y="4149360"/>
            <a:ext cx="2158920" cy="2375280"/>
            <a:chOff x="2700360" y="4149360"/>
            <a:chExt cx="2158920" cy="2375280"/>
          </a:xfrm>
        </p:grpSpPr>
        <p:grpSp>
          <p:nvGrpSpPr>
            <p:cNvPr id="193" name="Rettangolo arrotondato 9"/>
            <p:cNvGrpSpPr/>
            <p:nvPr/>
          </p:nvGrpSpPr>
          <p:grpSpPr>
            <a:xfrm>
              <a:off x="2700360" y="5583600"/>
              <a:ext cx="2158920" cy="941040"/>
              <a:chOff x="2700360" y="5583600"/>
              <a:chExt cx="2158920" cy="941040"/>
            </a:xfrm>
          </p:grpSpPr>
          <p:pic>
            <p:nvPicPr>
              <p:cNvPr id="194" name="Rettangolo arrotondato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700360" y="5583600"/>
                <a:ext cx="2158920" cy="94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797920" y="5657760"/>
                <a:ext cx="1969920" cy="75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Organizzazione del Lavor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96" name="Connettore 2 30"/>
            <p:cNvCxnSpPr/>
            <p:nvPr/>
          </p:nvCxnSpPr>
          <p:spPr>
            <a:xfrm flipH="1" flipV="1">
              <a:off x="4124880" y="4149360"/>
              <a:ext cx="136080" cy="146808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97" name="Gruppo 50"/>
          <p:cNvGrpSpPr/>
          <p:nvPr/>
        </p:nvGrpSpPr>
        <p:grpSpPr>
          <a:xfrm>
            <a:off x="1187280" y="4005360"/>
            <a:ext cx="2377080" cy="1439640"/>
            <a:chOff x="1187280" y="4005360"/>
            <a:chExt cx="2377080" cy="1439640"/>
          </a:xfrm>
        </p:grpSpPr>
        <p:grpSp>
          <p:nvGrpSpPr>
            <p:cNvPr id="198" name="Rettangolo arrotondato 13"/>
            <p:cNvGrpSpPr/>
            <p:nvPr/>
          </p:nvGrpSpPr>
          <p:grpSpPr>
            <a:xfrm>
              <a:off x="1187280" y="4521960"/>
              <a:ext cx="2218320" cy="923040"/>
              <a:chOff x="1187280" y="4521960"/>
              <a:chExt cx="2218320" cy="923040"/>
            </a:xfrm>
          </p:grpSpPr>
          <p:pic>
            <p:nvPicPr>
              <p:cNvPr id="199" name="Rettangolo arrotondato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21960"/>
                <a:ext cx="2218320" cy="9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1286640" y="4593960"/>
                <a:ext cx="2025720" cy="74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Fattore Uman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01" name="Connettore 2 32"/>
            <p:cNvCxnSpPr/>
            <p:nvPr/>
          </p:nvCxnSpPr>
          <p:spPr>
            <a:xfrm flipV="1">
              <a:off x="3283920" y="4005360"/>
              <a:ext cx="280800" cy="5490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2" name="Gruppo 51"/>
          <p:cNvGrpSpPr/>
          <p:nvPr/>
        </p:nvGrpSpPr>
        <p:grpSpPr>
          <a:xfrm>
            <a:off x="611280" y="3429000"/>
            <a:ext cx="2592360" cy="863640"/>
            <a:chOff x="611280" y="3429000"/>
            <a:chExt cx="2592360" cy="863640"/>
          </a:xfrm>
        </p:grpSpPr>
        <p:grpSp>
          <p:nvGrpSpPr>
            <p:cNvPr id="203" name="Rettangolo arrotondato 12"/>
            <p:cNvGrpSpPr/>
            <p:nvPr/>
          </p:nvGrpSpPr>
          <p:grpSpPr>
            <a:xfrm>
              <a:off x="611280" y="3429000"/>
              <a:ext cx="2226240" cy="863640"/>
              <a:chOff x="611280" y="3429000"/>
              <a:chExt cx="2226240" cy="863640"/>
            </a:xfrm>
          </p:grpSpPr>
          <p:pic>
            <p:nvPicPr>
              <p:cNvPr id="204" name="Rettangolo arrotondato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11280" y="3429000"/>
                <a:ext cx="222624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713520" y="3496320"/>
                <a:ext cx="2027160" cy="69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Informazione e Formazion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06" name="Connettore 2 34"/>
            <p:cNvCxnSpPr/>
            <p:nvPr/>
          </p:nvCxnSpPr>
          <p:spPr>
            <a:xfrm flipV="1">
              <a:off x="2781720" y="3779280"/>
              <a:ext cx="422280" cy="12780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7" name="Gruppo 52"/>
          <p:cNvGrpSpPr/>
          <p:nvPr/>
        </p:nvGrpSpPr>
        <p:grpSpPr>
          <a:xfrm>
            <a:off x="250920" y="2349360"/>
            <a:ext cx="2881440" cy="863640"/>
            <a:chOff x="250920" y="2349360"/>
            <a:chExt cx="2881440" cy="863640"/>
          </a:xfrm>
        </p:grpSpPr>
        <p:grpSp>
          <p:nvGrpSpPr>
            <p:cNvPr id="208" name="Rettangolo arrotondato 11"/>
            <p:cNvGrpSpPr/>
            <p:nvPr/>
          </p:nvGrpSpPr>
          <p:grpSpPr>
            <a:xfrm>
              <a:off x="250920" y="2349360"/>
              <a:ext cx="2232000" cy="863640"/>
              <a:chOff x="250920" y="2349360"/>
              <a:chExt cx="2232000" cy="863640"/>
            </a:xfrm>
          </p:grpSpPr>
          <p:pic>
            <p:nvPicPr>
              <p:cNvPr id="209" name="Rettangolo arrotondato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0920" y="2349360"/>
                <a:ext cx="223200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52440" y="2421000"/>
                <a:ext cx="203328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Cultura e Valori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11" name="Connettore 2 36"/>
            <p:cNvCxnSpPr/>
            <p:nvPr/>
          </p:nvCxnSpPr>
          <p:spPr>
            <a:xfrm>
              <a:off x="2426400" y="2829240"/>
              <a:ext cx="706320" cy="12852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12" name="Gruppo 53"/>
          <p:cNvGrpSpPr/>
          <p:nvPr/>
        </p:nvGrpSpPr>
        <p:grpSpPr>
          <a:xfrm>
            <a:off x="755640" y="1341360"/>
            <a:ext cx="2808360" cy="1295640"/>
            <a:chOff x="755640" y="1341360"/>
            <a:chExt cx="2808360" cy="1295640"/>
          </a:xfrm>
        </p:grpSpPr>
        <p:grpSp>
          <p:nvGrpSpPr>
            <p:cNvPr id="213" name="Rettangolo arrotondato 10"/>
            <p:cNvGrpSpPr/>
            <p:nvPr/>
          </p:nvGrpSpPr>
          <p:grpSpPr>
            <a:xfrm>
              <a:off x="755640" y="1341360"/>
              <a:ext cx="2262960" cy="948600"/>
              <a:chOff x="755640" y="1341360"/>
              <a:chExt cx="2262960" cy="948600"/>
            </a:xfrm>
          </p:grpSpPr>
          <p:pic>
            <p:nvPicPr>
              <p:cNvPr id="214" name="Rettangolo arrotondato 10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5640" y="1341360"/>
                <a:ext cx="2262960" cy="94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861840" y="1418040"/>
                <a:ext cx="202824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Normativa, vigilanza e controll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16" name="Connettore 2 38"/>
            <p:cNvCxnSpPr/>
            <p:nvPr/>
          </p:nvCxnSpPr>
          <p:spPr>
            <a:xfrm>
              <a:off x="2859840" y="2076120"/>
              <a:ext cx="704520" cy="561240"/>
            </a:xfrm>
            <a:prstGeom prst="straightConnector1">
              <a:avLst/>
            </a:prstGeom>
            <a:ln w="255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17" name="Gruppo 42"/>
          <p:cNvGrpSpPr/>
          <p:nvPr/>
        </p:nvGrpSpPr>
        <p:grpSpPr>
          <a:xfrm>
            <a:off x="2916360" y="2421000"/>
            <a:ext cx="2879640" cy="1728720"/>
            <a:chOff x="2916360" y="2421000"/>
            <a:chExt cx="2879640" cy="1728720"/>
          </a:xfrm>
        </p:grpSpPr>
        <p:grpSp>
          <p:nvGrpSpPr>
            <p:cNvPr id="218" name="Ovale 15"/>
            <p:cNvGrpSpPr/>
            <p:nvPr/>
          </p:nvGrpSpPr>
          <p:grpSpPr>
            <a:xfrm>
              <a:off x="3007080" y="2421000"/>
              <a:ext cx="2619000" cy="1728720"/>
              <a:chOff x="3007080" y="2421000"/>
              <a:chExt cx="2619000" cy="1728720"/>
            </a:xfrm>
          </p:grpSpPr>
          <p:pic>
            <p:nvPicPr>
              <p:cNvPr id="219" name="Ovale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3007080" y="2421000"/>
                <a:ext cx="2619000" cy="17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3434760" y="2693880"/>
                <a:ext cx="1771920" cy="114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1" name="Rettangolo 41" descr=""/>
            <p:cNvPicPr/>
            <p:nvPr/>
          </p:nvPicPr>
          <p:blipFill>
            <a:blip r:embed="rId13"/>
            <a:stretch/>
          </p:blipFill>
          <p:spPr>
            <a:xfrm>
              <a:off x="2916360" y="2873160"/>
              <a:ext cx="2879640" cy="7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Segnaposto numero diapositiva 3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1D73-DB82-44ED-A6AC-8AFF036E7A0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4E51-AAC7-4212-96EE-E3DC9DFAE47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Fumetto 3 4"/>
          <p:cNvGrpSpPr/>
          <p:nvPr/>
        </p:nvGrpSpPr>
        <p:grpSpPr>
          <a:xfrm>
            <a:off x="665280" y="743040"/>
            <a:ext cx="8173800" cy="5797440"/>
            <a:chOff x="665280" y="743040"/>
            <a:chExt cx="8173800" cy="5797440"/>
          </a:xfrm>
        </p:grpSpPr>
        <p:pic>
          <p:nvPicPr>
            <p:cNvPr id="225" name="Fumetto 3 4" descr=""/>
            <p:cNvPicPr/>
            <p:nvPr/>
          </p:nvPicPr>
          <p:blipFill>
            <a:blip r:embed="rId1"/>
            <a:stretch/>
          </p:blipFill>
          <p:spPr>
            <a:xfrm>
              <a:off x="665280" y="743040"/>
              <a:ext cx="8173800" cy="57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874880" y="1503360"/>
              <a:ext cx="5754600" cy="35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000000"/>
                  </a:solidFill>
                  <a:latin typeface="Calibri"/>
                </a:rPr>
                <a:t>Con il convegno di oggi, nel presentare i primi risultati del progetto,  </a:t>
              </a:r>
              <a:r>
                <a:rPr b="1" lang="it-IT" sz="4000" spc="-1" strike="noStrike">
                  <a:solidFill>
                    <a:srgbClr val="ff0000"/>
                  </a:solidFill>
                  <a:latin typeface="Calibri"/>
                </a:rPr>
                <a:t>proponiamo anche convergenze di intenti.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ottotitolo 2" descr=""/>
          <p:cNvPicPr/>
          <p:nvPr/>
        </p:nvPicPr>
        <p:blipFill>
          <a:blip r:embed="rId1"/>
          <a:stretch/>
        </p:blipFill>
        <p:spPr>
          <a:xfrm>
            <a:off x="633240" y="182520"/>
            <a:ext cx="8017200" cy="5462640"/>
          </a:xfrm>
          <a:prstGeom prst="rect">
            <a:avLst/>
          </a:prstGeom>
          <a:ln w="0">
            <a:noFill/>
          </a:ln>
        </p:spPr>
      </p:pic>
      <p:sp>
        <p:nvSpPr>
          <p:cNvPr id="5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30C3-C8EB-4F50-9180-16D094ADFBE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Fumetto 3 4" descr=""/>
          <p:cNvPicPr/>
          <p:nvPr/>
        </p:nvPicPr>
        <p:blipFill>
          <a:blip r:embed="rId2"/>
          <a:stretch/>
        </p:blipFill>
        <p:spPr>
          <a:xfrm>
            <a:off x="-19080" y="1268280"/>
            <a:ext cx="90043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86A-30BA-4919-9145-B96D1A2C99B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umetto 3 4"/>
          <p:cNvSpPr/>
          <p:nvPr/>
        </p:nvSpPr>
        <p:spPr>
          <a:xfrm>
            <a:off x="714240" y="357120"/>
            <a:ext cx="7572600" cy="4714920"/>
          </a:xfrm>
          <a:prstGeom prst="wedgeEllipseCallout">
            <a:avLst>
              <a:gd name="adj1" fmla="val 44694"/>
              <a:gd name="adj2" fmla="val 71495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I nodi  sono almeno tre,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 quelli che condizionano maggiormente l’azione preventiva nel sistema degli appalti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Calibri"/>
              </a:rPr>
              <a:t>Negli appalti ci guadagnano in  troppi e l’ultimo anello della catena, quello che lavora, resta strozzato ed rischi per la salute e la sicurezza sono l’ultimo dei suoi problemi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F117-CCC1-46B5-9C0E-DE4546C617B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umetto 2 4"/>
          <p:cNvSpPr/>
          <p:nvPr/>
        </p:nvSpPr>
        <p:spPr>
          <a:xfrm>
            <a:off x="1187280" y="285840"/>
            <a:ext cx="6840720" cy="2714400"/>
          </a:xfrm>
          <a:prstGeom prst="wedgeRoundRectCallout">
            <a:avLst>
              <a:gd name="adj1" fmla="val -4263"/>
              <a:gd name="adj2" fmla="val 80050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1. La congruità d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valore economico degli appalti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 modelli contrattuali sono una ragnatela inestricabile, che determina una parcellizzazione complessa ed estrema, complica il coordinamento per la gestione dei rischi interferenziali e rende difficile la verifica delle idoneità tecnico professionali delle impre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352D-F0BC-4331-8144-E55DC32AE4B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umetto 2 4"/>
          <p:cNvSpPr/>
          <p:nvPr/>
        </p:nvSpPr>
        <p:spPr>
          <a:xfrm>
            <a:off x="684360" y="189000"/>
            <a:ext cx="8001000" cy="3024000"/>
          </a:xfrm>
          <a:prstGeom prst="wedgeRoundRectCallout">
            <a:avLst>
              <a:gd name="adj1" fmla="val -8879"/>
              <a:gd name="adj2" fmla="val 65023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2. I modelli contrattuali di imprese e  lavoratori in appalto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"/>
              </a:rPr>
              <a:t>Le condizioni di lavoro dei lavoratori,</a:t>
            </a:r>
            <a:r>
              <a:rPr b="1" lang="it-IT" sz="3300" spc="-1" strike="noStrike">
                <a:solidFill>
                  <a:srgbClr val="ff0000"/>
                </a:solidFill>
                <a:latin typeface="Calibri"/>
              </a:rPr>
              <a:t> in termini di turni, orari, ritmi, carichi di lavoro, pendolarismi estremi, alloggio, servizi igienico assistenziali, </a:t>
            </a:r>
            <a:r>
              <a:rPr b="1" lang="it-IT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3300" spc="-1" strike="noStrike">
                <a:solidFill>
                  <a:srgbClr val="ff0000"/>
                </a:solidFill>
                <a:latin typeface="Calibri"/>
              </a:rPr>
              <a:t>equilibrio tra vita e lavoro, </a:t>
            </a:r>
            <a:r>
              <a:rPr b="1" lang="it-IT" sz="3300" spc="-1" strike="noStrike">
                <a:solidFill>
                  <a:srgbClr val="000000"/>
                </a:solidFill>
                <a:latin typeface="Calibri"/>
              </a:rPr>
              <a:t>sono spesso pesanti e sembra che non interessino a nessuno, salvo ai lavoratori stessi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E3AD-0F8B-4DAE-A559-3C7C342B527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umetto 2 4"/>
          <p:cNvSpPr/>
          <p:nvPr/>
        </p:nvSpPr>
        <p:spPr>
          <a:xfrm>
            <a:off x="285840" y="285840"/>
            <a:ext cx="8358120" cy="2571840"/>
          </a:xfrm>
          <a:prstGeom prst="wedgeRoundRectCallout">
            <a:avLst>
              <a:gd name="adj1" fmla="val -9277"/>
              <a:gd name="adj2" fmla="val 63999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3. L’organizzazione del lavoro negli appalti 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i rischi psicosociali connessi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85880" y="142920"/>
            <a:ext cx="7858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A3A1-20CD-447B-A2F4-7E02D1A7FC0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umetto 2 4"/>
          <p:cNvSpPr/>
          <p:nvPr/>
        </p:nvSpPr>
        <p:spPr>
          <a:xfrm>
            <a:off x="785880" y="2000160"/>
            <a:ext cx="6429240" cy="3714840"/>
          </a:xfrm>
          <a:prstGeom prst="wedgeRoundRectCallout">
            <a:avLst>
              <a:gd name="adj1" fmla="val 68236"/>
              <a:gd name="adj2" fmla="val 59152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l’Europa deve modernizzare la vita lavorativa, creando nuovi e migliori posti di lavoro, garantendo una crescita intelligente, sostenibile e inclusiva”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ttangolo 6"/>
          <p:cNvSpPr/>
          <p:nvPr/>
        </p:nvSpPr>
        <p:spPr>
          <a:xfrm>
            <a:off x="1042920" y="33336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ffrontarli è un percorso difficile, ma ci conforta aver scoperto anche di essere dentro la  strategia dell’Europ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8588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alibri"/>
              </a:rPr>
              <a:t>(Commissione Europea, Europa 2020: una strategia per una crescita intelligente, sostenibile e inclusiva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3AF1-6304-422C-BBA8-43F478A2B9E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Fumetto 2 4"/>
          <p:cNvGrpSpPr/>
          <p:nvPr/>
        </p:nvGrpSpPr>
        <p:grpSpPr>
          <a:xfrm>
            <a:off x="480960" y="695160"/>
            <a:ext cx="8040600" cy="4662720"/>
            <a:chOff x="480960" y="695160"/>
            <a:chExt cx="8040600" cy="4662720"/>
          </a:xfrm>
        </p:grpSpPr>
        <p:pic>
          <p:nvPicPr>
            <p:cNvPr id="246" name="Fumetto 2 4" descr=""/>
            <p:cNvPicPr/>
            <p:nvPr/>
          </p:nvPicPr>
          <p:blipFill>
            <a:blip r:embed="rId1"/>
            <a:stretch/>
          </p:blipFill>
          <p:spPr>
            <a:xfrm>
              <a:off x="480960" y="695160"/>
              <a:ext cx="8040600" cy="46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81120" y="895320"/>
              <a:ext cx="763884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Calibri"/>
                </a:rPr>
                <a:t>“</a:t>
              </a:r>
              <a:r>
                <a:rPr b="1" lang="it-IT" sz="3200" spc="-1" strike="noStrike">
                  <a:solidFill>
                    <a:srgbClr val="ff0000"/>
                  </a:solidFill>
                  <a:latin typeface="Calibri"/>
                </a:rPr>
                <a:t>Crescita inclusiva significa rafforzare la partecipazione delle persone mediante livelli di occupazione elevati, investire nelle competenze, combattere la povertà e modernizzare i mercati del lavoro..L’obiettivo è garantire a tutti accesso ed opportunità durante l’intera esistenza”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Vedremo come va a fini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5CF9-3CEB-4DB0-BAC1-AF84AF16D47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umetto 3 4"/>
          <p:cNvSpPr/>
          <p:nvPr/>
        </p:nvSpPr>
        <p:spPr>
          <a:xfrm>
            <a:off x="539640" y="836640"/>
            <a:ext cx="8280360" cy="4633920"/>
          </a:xfrm>
          <a:prstGeom prst="wedgeEllipseCallout">
            <a:avLst>
              <a:gd name="adj1" fmla="val 20481"/>
              <a:gd name="adj2" fmla="val 6603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Nel frattempo,  se diamo un segnale concreto, cominciando ad esempio a sciogliere (o allentare) qualche nodo tra quelli evidenziati sopra, facciamo bella figur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2E3-27D4-48F6-A316-71AB92F0635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Fumetto 3 4"/>
          <p:cNvGrpSpPr/>
          <p:nvPr/>
        </p:nvGrpSpPr>
        <p:grpSpPr>
          <a:xfrm>
            <a:off x="450720" y="244440"/>
            <a:ext cx="8315280" cy="6229440"/>
            <a:chOff x="450720" y="244440"/>
            <a:chExt cx="8315280" cy="6229440"/>
          </a:xfrm>
        </p:grpSpPr>
        <p:pic>
          <p:nvPicPr>
            <p:cNvPr id="253" name="Fumetto 3 4" descr=""/>
            <p:cNvPicPr/>
            <p:nvPr/>
          </p:nvPicPr>
          <p:blipFill>
            <a:blip r:embed="rId1"/>
            <a:stretch/>
          </p:blipFill>
          <p:spPr>
            <a:xfrm>
              <a:off x="450720" y="244440"/>
              <a:ext cx="8315280" cy="62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679400" y="1166760"/>
              <a:ext cx="5856480" cy="43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800" spc="-1" strike="noStrike">
                  <a:solidFill>
                    <a:srgbClr val="ff0000"/>
                  </a:solidFill>
                  <a:latin typeface="Calibri"/>
                </a:rPr>
                <a:t>Per parlare di questi temi abbiamo invitato  tre esperti, docenti universitari, che ci illustrano il loro punto di vista.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919D-BA9F-4598-8605-327A3971352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losione 1 4"/>
          <p:cNvSpPr/>
          <p:nvPr/>
        </p:nvSpPr>
        <p:spPr>
          <a:xfrm>
            <a:off x="142920" y="0"/>
            <a:ext cx="9001080" cy="6643800"/>
          </a:xfrm>
          <a:prstGeom prst="irregularSeal1">
            <a:avLst/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Grazi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dell’attenzi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428400"/>
            <a:ext cx="807228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Eurofound ribadisc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Anche se non è una novità: Burke et al. 2013; Chang SS et al. 2013; Duleba T. et al.2012;Uutela A. 2010; Wilson Sh et al. 1993; Hafner H. 1988 e numerosi altri autor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83BF-01AA-407A-B3CD-848656951E5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umetto 3 4"/>
          <p:cNvSpPr/>
          <p:nvPr/>
        </p:nvSpPr>
        <p:spPr>
          <a:xfrm>
            <a:off x="1000080" y="1214280"/>
            <a:ext cx="7072200" cy="3714840"/>
          </a:xfrm>
          <a:prstGeom prst="wedgeEllipseCallout">
            <a:avLst>
              <a:gd name="adj1" fmla="val -22379"/>
              <a:gd name="adj2" fmla="val -57666"/>
            </a:avLst>
          </a:prstGeom>
          <a:gradFill rotWithShape="0">
            <a:gsLst>
              <a:gs pos="0">
                <a:srgbClr val="678289"/>
              </a:gs>
              <a:gs pos="100000">
                <a:srgbClr val="b3e0ec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La disoccupazione, in particolare quella a lungo termine, provoca un enorme impatto sul benessere soggettivo”.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0040" y="71424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BCDF-4BE3-424D-8523-99F448B81A7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Fumetto 2 4"/>
          <p:cNvGrpSpPr/>
          <p:nvPr/>
        </p:nvGrpSpPr>
        <p:grpSpPr>
          <a:xfrm>
            <a:off x="1195560" y="1054080"/>
            <a:ext cx="6978600" cy="4749840"/>
            <a:chOff x="1195560" y="1054080"/>
            <a:chExt cx="6978600" cy="4749840"/>
          </a:xfrm>
        </p:grpSpPr>
        <p:pic>
          <p:nvPicPr>
            <p:cNvPr id="60" name="Fumetto 2 4" descr=""/>
            <p:cNvPicPr/>
            <p:nvPr/>
          </p:nvPicPr>
          <p:blipFill>
            <a:blip r:embed="rId1"/>
            <a:stretch/>
          </p:blipFill>
          <p:spPr>
            <a:xfrm>
              <a:off x="1195560" y="1054080"/>
              <a:ext cx="697860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343160" y="1200240"/>
              <a:ext cx="5835600" cy="23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ff0000"/>
                  </a:solidFill>
                  <a:latin typeface="Calibri"/>
                </a:rPr>
                <a:t>La stessa crisi si abbatte però pesantemente anche sulle condizioni di chi lavora,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4000" y="4005000"/>
            <a:ext cx="85341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alibri"/>
              </a:rPr>
              <a:t>ed hanno un forte impatto con la salute e la sicurezza sul lavor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4B32-6BFE-4B3E-82DC-8B59D58B311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Fumetto 2 4"/>
          <p:cNvGrpSpPr/>
          <p:nvPr/>
        </p:nvGrpSpPr>
        <p:grpSpPr>
          <a:xfrm>
            <a:off x="407880" y="244440"/>
            <a:ext cx="8394840" cy="3876840"/>
            <a:chOff x="407880" y="244440"/>
            <a:chExt cx="8394840" cy="3876840"/>
          </a:xfrm>
        </p:grpSpPr>
        <p:pic>
          <p:nvPicPr>
            <p:cNvPr id="65" name="Fumetto 2 4" descr=""/>
            <p:cNvPicPr/>
            <p:nvPr/>
          </p:nvPicPr>
          <p:blipFill>
            <a:blip r:embed="rId1"/>
            <a:stretch/>
          </p:blipFill>
          <p:spPr>
            <a:xfrm>
              <a:off x="407880" y="244440"/>
              <a:ext cx="839484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69880" y="401760"/>
              <a:ext cx="8075520" cy="25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800" spc="-1" strike="noStrike">
                  <a:solidFill>
                    <a:srgbClr val="000000"/>
                  </a:solidFill>
                  <a:latin typeface="Calibri"/>
                </a:rPr>
                <a:t>Si accentuano ed espandono i fattori che stanno trasformando il lavoro 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71320" y="285480"/>
            <a:ext cx="80722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0000"/>
                </a:solidFill>
                <a:latin typeface="Calibri"/>
              </a:rPr>
              <a:t>Per ampie  fasce sociali deboli e per diverse categorie di lavoratori meno qualificati, 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Calibri"/>
              </a:rPr>
              <a:t>( Landsbergis PA et al. 2012).</a:t>
            </a:r>
            <a:r>
              <a:rPr b="1" lang="en-US" sz="2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ork organization, job insecurity, and occupational health disparit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311B-BB8B-409F-AD4F-93C0FBA61C8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umetto 3 4"/>
          <p:cNvSpPr/>
          <p:nvPr/>
        </p:nvSpPr>
        <p:spPr>
          <a:xfrm>
            <a:off x="357120" y="1628640"/>
            <a:ext cx="8318520" cy="32403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isoccupazione e condizioni di lavoro dense di rischi per la salute e la sicurezza sono le due facce della stessa medag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71320" y="500040"/>
            <a:ext cx="80722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Eurofound (Tendenze nella qualità del lavoro in Europa, quinta indagine, 2012) ripor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38D5-E13E-4B7B-9482-4E9F764FF34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umetto 2 4"/>
          <p:cNvSpPr/>
          <p:nvPr/>
        </p:nvSpPr>
        <p:spPr>
          <a:xfrm>
            <a:off x="1143000" y="1928880"/>
            <a:ext cx="6929280" cy="4357800"/>
          </a:xfrm>
          <a:prstGeom prst="wedgeRoundRectCallout">
            <a:avLst>
              <a:gd name="adj1" fmla="val 1111"/>
              <a:gd name="adj2" fmla="val -59666"/>
              <a:gd name="adj3" fmla="val 16667"/>
            </a:avLst>
          </a:prstGeom>
          <a:gradFill rotWithShape="0">
            <a:gsLst>
              <a:gs pos="0">
                <a:srgbClr val="7e8b8f"/>
              </a:gs>
              <a:gs pos="100000">
                <a:srgbClr val="d9ef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il 14% di posti di lavoro sono di qualità e ben retribui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il 37% sono di qualità ben equilibr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il 29% scarsamente equilibr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Il 20% di scarsa qualità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42600" y="785520"/>
            <a:ext cx="8001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Eurofound evidenz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anche ch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4236-4BE5-4EAB-B881-EB56D9A219C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umetto 3 4"/>
          <p:cNvSpPr/>
          <p:nvPr/>
        </p:nvSpPr>
        <p:spPr>
          <a:xfrm>
            <a:off x="0" y="571680"/>
            <a:ext cx="3635280" cy="2857320"/>
          </a:xfrm>
          <a:prstGeom prst="wedgeEllipseCallout">
            <a:avLst>
              <a:gd name="adj1" fmla="val 42532"/>
              <a:gd name="adj2" fmla="val 6295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 lavoratori con posti di lavoro di scarsa qualità  hanno i livelli più bassi di salute e benesser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umetto 3 6"/>
          <p:cNvSpPr/>
          <p:nvPr/>
        </p:nvSpPr>
        <p:spPr>
          <a:xfrm>
            <a:off x="3571920" y="2357280"/>
            <a:ext cx="3276720" cy="3929400"/>
          </a:xfrm>
          <a:prstGeom prst="wedgeEllipseCallout">
            <a:avLst>
              <a:gd name="adj1" fmla="val 75652"/>
              <a:gd name="adj2" fmla="val 4476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Questi posti di lavoro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 concentrano in imprese con meno di cinque dipendenti e nel settore privato”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07:56:35Z</dcterms:created>
  <dc:creator>Alberghini</dc:creator>
  <dc:description/>
  <dc:language>en-US</dc:language>
  <cp:lastModifiedBy>Carmen</cp:lastModifiedBy>
  <dcterms:modified xsi:type="dcterms:W3CDTF">2014-05-18T06:55:50Z</dcterms:modified>
  <cp:revision>405</cp:revision>
  <dc:subject/>
  <dc:title>Diapositiva 1</dc:title>
</cp:coreProperties>
</file>