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08F7-41BE-4984-8433-F8346200BB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B5B-F017-4FC5-87B2-9867110F91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383-DA3A-498C-B1AF-92472760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031-3EA1-42EF-A225-CBB29EF5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5FC-41E2-4EA7-AA32-3D401F7F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A02-D00D-4AD9-AA64-AC76E1B2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405-A20B-4B8F-AC49-8F222E5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FFB-24AC-4746-984B-936C045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F93-868E-4D0C-BB96-A19E58B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19F-8411-444F-AD17-DEA0E01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A0D-0B48-4CEF-B513-E5F4CD1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A72-BDD6-4490-A722-BF4BD2C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537-35C0-434E-BFDD-224C133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92D-04E2-4D81-A178-D7FE7B8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6092-17CD-41D2-A931-226FD4C08DF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5214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Il punto di vista dei lavorator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7640" y="6165720"/>
            <a:ext cx="5256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Infermiera 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236000" y="6094440"/>
            <a:ext cx="1407960" cy="6462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68360" y="0"/>
            <a:ext cx="0" cy="6858000"/>
          </a:xfrm>
          <a:prstGeom prst="line">
            <a:avLst/>
          </a:prstGeom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419640" y="5445000"/>
            <a:ext cx="54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Tahoma"/>
              </a:rPr>
              <a:t>Milano, 06 nov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547640" y="6094440"/>
            <a:ext cx="7596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0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5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7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"/>
          <p:cNvPicPr/>
          <p:nvPr/>
        </p:nvPicPr>
        <p:blipFill>
          <a:blip r:embed="rId1"/>
          <a:stretch/>
        </p:blipFill>
        <p:spPr>
          <a:xfrm>
            <a:off x="1839960" y="2421000"/>
            <a:ext cx="6404040" cy="3513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28720" y="1239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un terzo dei casi solo dopo denu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838080" y="170028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iù frequenti nelle professioni infermier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213372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ambio re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256536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ambio ma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magine 1" descr=""/>
          <p:cNvPicPr/>
          <p:nvPr/>
        </p:nvPicPr>
        <p:blipFill>
          <a:blip r:embed="rId1"/>
          <a:stretch/>
        </p:blipFill>
        <p:spPr>
          <a:xfrm>
            <a:off x="1116000" y="1155600"/>
            <a:ext cx="7307280" cy="4738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cuni esempi di non chiarezza giud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828720" y="1960560"/>
            <a:ext cx="6983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 adibire a compiti lavorativi che comportano posture obbligate della colonna vertebrale fissa e in flessi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38080" y="2897280"/>
            <a:ext cx="75502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ve essere adibita alla mobilizzazione di ospiti almeno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rzialmente collaboranti. Può mobilizzare ospit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laboranti solo con l’uso di un sollevatore meccanico o in copp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838080" y="436572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vitare attività gravose per la colon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838080" y="512928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 effettuare MMC &gt; di 7 K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tre criticità em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15840" y="1333440"/>
            <a:ext cx="7401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carsa considerazione dei lavoratori con giudizi di idoneità con limitazione alla movimentazione da parte dei colleghi, dei preposti e dei dirig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900000" y="2608200"/>
            <a:ext cx="78598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pesso questi lavoratori sono esclusi dall’organizzazione e dalla  pianificazione del lavoro e si sentono “di peso” agli altri colleghi e privi di motivazione per il loro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874800" y="3887640"/>
            <a:ext cx="71532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l preposto di reparto non favorisce l’integrazione nel gruppo di questi lav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874800" y="4913280"/>
            <a:ext cx="715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nelle valutazioni personali “pagelline” valutazioni inferiore rispetto alle prece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900000" y="2608200"/>
            <a:ext cx="777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finire con l’aiuto dei lavoratori i compiti ritenuti particolarmente “gravosi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58920" y="3753000"/>
            <a:ext cx="6769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avorire l’integrazione dei lavor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00000" y="4545000"/>
            <a:ext cx="6696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ggior cultura aziendale di sicurezza: procedure, informazione,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85960" y="1600200"/>
            <a:ext cx="7775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ggior conoscenza dei compiti lavorativi svolti nei reparti di assegnazione del lavoratore con idoneità limi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4720" y="2743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me favorire  il rispetto delle idoneità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l punto di vista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67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193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me abbiamo ope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28720" y="1960560"/>
            <a:ext cx="6622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aminato 50 denunce di malattie professionali di lavoratori della san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 carico del distretto lombosacrale pervenute al nostro servizio nel triennio 2009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838080" y="3645000"/>
            <a:ext cx="6758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aminato le cartelle sanitarie e di rischio e relativi giudizi di idone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838080" y="508464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accolta le anamnesi lav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1193760" y="1413000"/>
            <a:ext cx="7050240" cy="4392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ntomi – Diag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50920" y="1324080"/>
            <a:ext cx="7308720" cy="4552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iagnosi – Idoneità con Limi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95280" y="1368360"/>
            <a:ext cx="7237440" cy="4508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con Limitazione – Denu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912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ispetto idoneità con limitazione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l punto di vista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-34920" y="260280"/>
            <a:ext cx="98773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193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 ricostruzione anamnestica del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26920" y="1557360"/>
            <a:ext cx="69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empo di mobilizzazione: operatore sanitario circa 60/70% del tempo lavorato – infermiere 40/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26920" y="2529000"/>
            <a:ext cx="7128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alità di mobilizzazione pz. NC: con ausili maggiori negli spostamenti letto/carrozzina e viceversa, non ausiliate le movimentazioni a l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26920" y="4653000"/>
            <a:ext cx="77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mpiti più gravosi: riposizionamento in carrozzina, spostamento del paziente verso il cuscino, posizionamento dei pazienti in lettini specialistici (ginecologici, sala urologica), mobilizzazione del paziente dalla carrozzina al bagno o al seggiolino doc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26920" y="3716280"/>
            <a:ext cx="7401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alità di mobilizzazione pz. PC: senza ausili, di solito in coppia al mattino e al pomeriggio e da SOLI nel turno not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3205080" y="3328920"/>
            <a:ext cx="5904000" cy="2908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6769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parzialmente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9920" y="1341000"/>
            <a:ext cx="46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828720" y="1239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motivi organizza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0020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carenza personale (malattie, fe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55640" y="1916280"/>
            <a:ext cx="7777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presenza nello stesso turno di più operatori con idoneità con limitazioni e mobilizzazioni in “urgenz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00000" y="246528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turno not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282564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giudizio non evidenzia i compiti a risch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8080" y="325764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il lavoratore si sente “un peso” per il col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3338640" y="3429000"/>
            <a:ext cx="577044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non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828720" y="160020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iudizio non evidenzia i compiti a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38080" y="2247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eposti non attenti a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38080" y="285264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agilità”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35:21Z</dcterms:created>
  <dc:creator>aricco</dc:creator>
  <dc:description/>
  <dc:language>en-US</dc:language>
  <cp:lastModifiedBy>lalla</cp:lastModifiedBy>
  <dcterms:modified xsi:type="dcterms:W3CDTF">2013-04-04T07:10:08Z</dcterms:modified>
  <cp:revision>135</cp:revision>
  <dc:subject/>
  <dc:title>“Libertà di scelta: quale consapevolezza”</dc:title>
</cp:coreProperties>
</file>