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2F1F-798D-4C27-89CD-7361839DD56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4CEC-FC93-4906-8861-78DFB6842B8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7F1-CCB8-4AF6-9B7D-03E6DCA9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95C-520B-4CDC-AEA8-E812CEB6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094-770F-4245-888F-94ED330C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58A-26E9-4BB9-8C01-8FBF9991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2A0-3130-49A8-A68D-503B48DA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E61-3C64-4ADB-99C4-9F9EDAFE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2FB-5BD8-42DA-8024-51B70C51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CCB-6F9E-4577-93A2-D3944A3E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629-415C-4FE8-876D-9A8D0A06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5EF-986E-4264-A0FB-807E73EF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E64-4C6C-4FB1-90C6-A9CEFFF3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FEC-C5ED-40D7-AF29-5C748CD3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0B59-0FFD-4C9A-A753-A942342852D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752148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Il punto di vista dei lavorator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7640" y="6165720"/>
            <a:ext cx="5256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Infermiera 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236000" y="6094440"/>
            <a:ext cx="1407960" cy="6462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68360" y="0"/>
            <a:ext cx="0" cy="6858000"/>
          </a:xfrm>
          <a:prstGeom prst="line">
            <a:avLst/>
          </a:prstGeom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3419640" y="5445000"/>
            <a:ext cx="547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8080"/>
                </a:solidFill>
                <a:latin typeface="Tahoma"/>
              </a:rPr>
              <a:t>Milano, 06 novemb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6"/>
          <p:cNvSpPr/>
          <p:nvPr/>
        </p:nvSpPr>
        <p:spPr>
          <a:xfrm>
            <a:off x="1547640" y="6094440"/>
            <a:ext cx="7596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0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21607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5"/>
          <p:cNvSpPr/>
          <p:nvPr/>
        </p:nvSpPr>
        <p:spPr>
          <a:xfrm>
            <a:off x="155520" y="46080"/>
            <a:ext cx="7772400" cy="10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7"/>
          <p:cNvSpPr/>
          <p:nvPr/>
        </p:nvSpPr>
        <p:spPr>
          <a:xfrm>
            <a:off x="155520" y="46080"/>
            <a:ext cx="7772400" cy="10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4" descr=""/>
          <p:cNvPicPr/>
          <p:nvPr/>
        </p:nvPicPr>
        <p:blipFill>
          <a:blip r:embed="rId1"/>
          <a:stretch/>
        </p:blipFill>
        <p:spPr>
          <a:xfrm>
            <a:off x="1839960" y="2421000"/>
            <a:ext cx="6404040" cy="3513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doneità rispet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155520" y="46080"/>
            <a:ext cx="7772400" cy="10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828720" y="1239840"/>
            <a:ext cx="828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un terzo dei casi solo dopo denu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838080" y="1700280"/>
            <a:ext cx="828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iù frequenti nelle professioni infermieristi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838080" y="2133720"/>
            <a:ext cx="828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ambio re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838080" y="2565360"/>
            <a:ext cx="828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ambio ma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magine 1" descr=""/>
          <p:cNvPicPr/>
          <p:nvPr/>
        </p:nvPicPr>
        <p:blipFill>
          <a:blip r:embed="rId1"/>
          <a:stretch/>
        </p:blipFill>
        <p:spPr>
          <a:xfrm>
            <a:off x="1116000" y="1155600"/>
            <a:ext cx="7307280" cy="4738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cuni esempi di non chiarezza giud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828720" y="1960560"/>
            <a:ext cx="6983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on adibire a compiti lavorativi che comportano posture obbligate della colonna vertebrale fissa e in flessio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838080" y="2897280"/>
            <a:ext cx="75502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ve essere adibita alla mobilizzazione di ospiti almeno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rzialmente collaboranti. Può mobilizzare ospit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llaboranti solo con l’uso di un sollevatore meccanico o in coppi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838080" y="4365720"/>
            <a:ext cx="828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vitare attività gravose per la colon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838080" y="5129280"/>
            <a:ext cx="828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on effettuare MMC &gt; di 7 K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tre criticità em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LOGOREG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15840" y="1333440"/>
            <a:ext cx="7401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carsa considerazione dei lavoratori con giudizi di idoneità con limitazione alla movimentazione da parte dei colleghi, dei preposti e dei dirig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900000" y="2608200"/>
            <a:ext cx="78598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pesso questi lavoratori sono esclusi dall’organizzazione e dalla  pianificazione del lavoro e si sentono “di peso” agli altri colleghi e privi di motivazione per il loro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874800" y="3887640"/>
            <a:ext cx="71532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il preposto di reparto non favorisce l’integrazione nel gruppo di questi lavo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874800" y="4913280"/>
            <a:ext cx="7153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nelle valutazioni personali “pagelline” valutazioni inferiore rispetto alle preced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LOGOREG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900000" y="2608200"/>
            <a:ext cx="7775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efinire con l’aiuto dei lavoratori i compiti ritenuti particolarmente “gravosi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258920" y="3753000"/>
            <a:ext cx="6769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avorire l’integrazione dei lavorat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900000" y="4545000"/>
            <a:ext cx="6696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aggior cultura aziendale di sicurezza: procedure, informazione,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885960" y="1600200"/>
            <a:ext cx="7775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aggior conoscenza dei compiti lavorativi svolti nei reparti di assegnazione del lavoratore con idoneità limi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4720" y="27432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Come favorire  il rispetto delle idoneità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l punto di vista del lav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2204640"/>
            <a:ext cx="6769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grazie per l’atten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LOGOREG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193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ome abbiamo ope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LOGOREG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828720" y="1960560"/>
            <a:ext cx="66229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saminato 50 denunce di malattie professionali di lavoratori della san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 carico del distretto lombosacrale pervenute al nostro servizio nel triennio 2009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838080" y="3645000"/>
            <a:ext cx="6758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saminato le cartelle sanitarie e di rischio e relativi giudizi di idonei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838080" y="5084640"/>
            <a:ext cx="82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accolta le anamnesi lav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"/>
          <p:cNvPicPr/>
          <p:nvPr/>
        </p:nvPicPr>
        <p:blipFill>
          <a:blip r:embed="rId1"/>
          <a:stretch/>
        </p:blipFill>
        <p:spPr>
          <a:xfrm>
            <a:off x="1193760" y="1413000"/>
            <a:ext cx="7050240" cy="4392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ntomi – Diagn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150920" y="1324080"/>
            <a:ext cx="7308720" cy="4552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iagnosi – Idoneità con Limi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295280" y="1368360"/>
            <a:ext cx="7237440" cy="4508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doneità con Limitazione – Denu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6912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ispetto idoneità con limitazione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l punto di vista del lav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LOGOREG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-34920" y="260280"/>
            <a:ext cx="987732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1930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 ricostruzione anamnestica del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LOGOREG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826920" y="1557360"/>
            <a:ext cx="69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empo di mobilizzazione: operatore sanitario circa 60/70% del tempo lavorato – infermiere 40/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826920" y="2529000"/>
            <a:ext cx="7128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modalità di mobilizzazione pz. NC: con ausili maggiori negli spostamenti letto/carrozzina e viceversa, non ausiliate le movimentazioni a l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26920" y="4653000"/>
            <a:ext cx="774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ompiti più gravosi: riposizionamento in carrozzina, spostamento del paziente verso il cuscino, posizionamento dei pazienti in lettini specialistici (ginecologici, sala urologica), mobilizzazione del paziente dalla carrozzina al bagno o al seggiolino doc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826920" y="3716280"/>
            <a:ext cx="7401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modalità di mobilizzazione pz. PC: senza ausili, di solito in coppia al mattino e al pomeriggio e da SOLI nel turno nottu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3205080" y="3328920"/>
            <a:ext cx="5904000" cy="2908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6769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doneità parzialmente rispet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9920" y="1341000"/>
            <a:ext cx="46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828720" y="1239840"/>
            <a:ext cx="828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motivi organizzati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00000" y="1600200"/>
            <a:ext cx="828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- carenza personale (malattie, fe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55640" y="1916280"/>
            <a:ext cx="7777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- presenza nello stesso turno di più operatori con idoneità con limitazioni e mobilizzazioni in “urgenz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900000" y="2465280"/>
            <a:ext cx="828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- turno nottu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38080" y="2825640"/>
            <a:ext cx="828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giudizio non evidenzia i compiti a risch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38080" y="3257640"/>
            <a:ext cx="828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il lavoratore si sente “un peso” per il coll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3338640" y="3429000"/>
            <a:ext cx="577044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6769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doneità non rispet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1835280" y="5950080"/>
            <a:ext cx="7308720" cy="28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7524720" y="6022800"/>
            <a:ext cx="1408320" cy="646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LOGOREG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85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0"/>
          <p:cNvSpPr/>
          <p:nvPr/>
        </p:nvSpPr>
        <p:spPr>
          <a:xfrm rot="16200000">
            <a:off x="-3231000" y="3231360"/>
            <a:ext cx="6858000" cy="3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iudizi di idoneità e ruolo del Medico Competente nel settore della San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835280" y="6308640"/>
            <a:ext cx="5545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812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00"/>
                </a:solidFill>
                <a:latin typeface="Tahoma"/>
              </a:rPr>
              <a:t>Narcisa Pius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828720" y="1600200"/>
            <a:ext cx="828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iudizio non evidenzia i compiti a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838080" y="2247840"/>
            <a:ext cx="828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eposti non attenti a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38080" y="2852640"/>
            <a:ext cx="82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agilità” del lav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5:35:21Z</dcterms:created>
  <dc:creator>aricco</dc:creator>
  <dc:description/>
  <dc:language>en-US</dc:language>
  <cp:lastModifiedBy>lalla</cp:lastModifiedBy>
  <dcterms:modified xsi:type="dcterms:W3CDTF">2013-04-04T07:10:08Z</dcterms:modified>
  <cp:revision>135</cp:revision>
  <dc:subject/>
  <dc:title>“Libertà di scelta: quale consapevolezza”</dc:title>
</cp:coreProperties>
</file>